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9313-9D64-4043-9AE8-EBB8759E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F16D819-17D8-4603-9F6F-2C8AB0ED3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kogranični program CRO-BIH, 2007-20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01D-C222-4A30-9438-2A446FE9578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107-2C9F-4922-9FB1-600FEC752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4ED-F955-4287-A7C7-89A66021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F96-4627-4A84-90F3-2DB5769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918-6C8B-407A-B6A1-ACA035F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8E9-CE88-4B02-82E8-603FB6F3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2F2-4354-40B2-A5FB-8692D816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3155-7743-4B00-BDFC-E108A4C2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6CC2-8232-4D2F-8B79-FE0DC31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12C-2BFF-4DA5-974C-CA7A922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EFC3-8FA0-4953-86A2-929CCEA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82FF-0D6B-4DE4-960F-E6809DD8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067C-918B-4BEC-828B-C308C481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18E-F1F6-473B-AE23-CDBDFB09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9C33-6C64-4DC6-ACB2-D6CC1224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8587-2709-4B46-8D24-C8A8932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68F7-1A02-425E-B483-6D45EC07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C3C-638D-4265-8220-F1C02BD9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68D9-577E-47DF-B146-1640333A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E35-719D-4D84-88C0-F028913A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8A3-8581-4318-B2E0-9271652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6AC-BAFE-4ECA-BEBE-B4DA268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4DA-933A-4079-9B91-6489A9C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F3D-554E-4CAF-82BD-830598A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4B8-26A4-44EC-B8CB-21C9FCC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E4F-DED9-489A-8C58-1692F8C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091-900D-48C7-BA26-DA0B3B45D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179280" y="115920"/>
            <a:ext cx="52092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826920" y="115920"/>
            <a:ext cx="66204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108000" y="6381720"/>
            <a:ext cx="628560" cy="42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828000" y="630864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jeka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sira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d strane 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6818400" y="0"/>
            <a:ext cx="23256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173-E313-4164-96E9-814A78E20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bcsrb-mne.org/" TargetMode="External"/><Relationship Id="rId2" Type="http://schemas.openxmlformats.org/officeDocument/2006/relationships/hyperlink" Target="http://www.evropa.sr.gov.yu/" TargetMode="External"/><Relationship Id="rId3" Type="http://schemas.openxmlformats.org/officeDocument/2006/relationships/hyperlink" Target="http://www.gov.me/" TargetMode="External"/><Relationship Id="rId4" Type="http://schemas.openxmlformats.org/officeDocument/2006/relationships/hyperlink" Target="http://www.gov.me/" TargetMode="External"/><Relationship Id="rId5" Type="http://schemas.openxmlformats.org/officeDocument/2006/relationships/hyperlink" Target="http://ec.europa.eu/europeaid/work/procedures/index_en.htm" TargetMode="External"/><Relationship Id="rId6" Type="http://schemas.openxmlformats.org/officeDocument/2006/relationships/hyperlink" Target="http://ec.europa.eu/europeaid/work/procedures/index_en.htm" TargetMode="External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orary%20Internet%20Files/OLK7D/Section.doc" TargetMode="External"/><Relationship Id="rId2" Type="http://schemas.openxmlformats.org/officeDocument/2006/relationships/hyperlink" Target="file:///../../Local%20Settings/Temporary%20Internet%20Files/OLK7D/Section.doc" TargetMode="External"/><Relationship Id="rId3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ork/procedures/implementation/grants/index_en.htm" TargetMode="External"/><Relationship Id="rId2" Type="http://schemas.openxmlformats.org/officeDocument/2006/relationships/hyperlink" Target="http://ec.europa.eu/europeaid/multimedia/publications/publications/manuals-tools/t101_en.htm" TargetMode="Externa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mailto:jts@cbcsrb-mne.org" TargetMode="Externa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1876320"/>
            <a:ext cx="914400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Albertus"/>
              </a:rPr>
              <a:t>Prekogranični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Albertus"/>
              </a:rPr>
              <a:t>Srbija – Crna G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"/>
              </a:rPr>
              <a:t>INFO DAN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"/>
              </a:rPr>
              <a:t>Pljevlja</a:t>
            </a:r>
            <a:r>
              <a:rPr b="1" lang="hr-HR" sz="3200" spc="-1" strike="noStrike">
                <a:solidFill>
                  <a:srgbClr val="ffff00"/>
                </a:solidFill>
                <a:latin typeface="Albertus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Albertus"/>
              </a:rPr>
              <a:t>16</a:t>
            </a:r>
            <a:r>
              <a:rPr b="1" lang="hr-HR" sz="3200" spc="-1" strike="noStrike">
                <a:solidFill>
                  <a:srgbClr val="ffff00"/>
                </a:solidFill>
                <a:latin typeface="Albertus"/>
              </a:rPr>
              <a:t>.07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Visina bespovratne pomoći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1.3.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417600" y="3068640"/>
            <a:ext cx="77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47760" y="2570040"/>
          <a:ext cx="6378120" cy="2912760"/>
        </p:xfrm>
        <a:graphic>
          <a:graphicData uri="http://schemas.openxmlformats.org/drawingml/2006/table">
            <a:tbl>
              <a:tblPr/>
              <a:tblGrid>
                <a:gridCol w="1742040"/>
                <a:gridCol w="2509920"/>
                <a:gridCol w="2126160"/>
              </a:tblGrid>
              <a:tr h="88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spoloživi izno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</a:t>
                      </a: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</a:t>
                      </a: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ra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7b46d0"/>
                    </a:solidFill>
                  </a:tcPr>
                </a:tc>
              </a:tr>
              <a:tr h="101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nimu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5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7b46d0"/>
                    </a:solidFill>
                  </a:tcPr>
                </a:tc>
              </a:tr>
              <a:tr h="101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</a:t>
                      </a: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s</a:t>
                      </a: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r>
                        <a:rPr b="1" lang="en-GB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66"/>
                      </a:solidFill>
                    </a:lnR>
                    <a:lnT w="1872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solidFill>
                      <a:srgbClr val="7b46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6120" y="2099160"/>
            <a:ext cx="8591760" cy="1250280"/>
          </a:xfrm>
          <a:prstGeom prst="flowChartTerminator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Arial"/>
                <a:ea typeface="Arial"/>
              </a:rPr>
              <a:t>Minimumi i maksimumi iznosa koji se odnose na vredost svake od dve bespovratne pomoći odvojeno, t.j. ne na zbir obe bespovratne pomoći</a:t>
            </a:r>
            <a:r>
              <a:rPr b="1" lang="sr-Latn-CS" sz="24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4600" y="3660480"/>
            <a:ext cx="8737560" cy="835560"/>
          </a:xfrm>
          <a:prstGeom prst="flowChartTerminator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Arial"/>
                <a:ea typeface="Arial"/>
              </a:rPr>
              <a:t>Svaki projekat će se sastojati od dve bespovratne pomoći: jedan dodeljen u Srbiji i jedan u Crnoj G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4836600"/>
            <a:ext cx="8737560" cy="1181520"/>
          </a:xfrm>
          <a:prstGeom prst="flowChartTerminator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Arial"/>
                <a:ea typeface="Arial"/>
              </a:rPr>
              <a:t>Kod podnošenja predloga finansijskog budžeta, projektni predlog mora imati dva odvojena predloga budžeta (po zemlji/partneru), ali isto tako i jedan zbi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rot="5400000">
            <a:off x="7143480" y="3501720"/>
            <a:ext cx="825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367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36768"/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762600" y="2685960"/>
            <a:ext cx="1577520" cy="1615680"/>
            <a:chOff x="6762600" y="2685960"/>
            <a:chExt cx="1577520" cy="1615680"/>
          </a:xfrm>
        </p:grpSpPr>
        <p:sp>
          <p:nvSpPr>
            <p:cNvPr id="240" name=""/>
            <p:cNvSpPr/>
            <p:nvPr/>
          </p:nvSpPr>
          <p:spPr>
            <a:xfrm flipV="1">
              <a:off x="6762600" y="2685960"/>
              <a:ext cx="787680" cy="16156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7552800" y="2685960"/>
              <a:ext cx="787320" cy="16156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rot="19481400">
            <a:off x="7373880" y="2367000"/>
            <a:ext cx="209880" cy="35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2" y="7199"/>
                </a:moveTo>
                <a:arcTo wR="10800" hR="10800" stAng="-1168553" swAng="9918995"/>
                <a:lnTo>
                  <a:pt x="10800" y="10800"/>
                </a:lnTo>
                <a:close/>
              </a:path>
              <a:path fill="none" w="21600" h="21600">
                <a:moveTo>
                  <a:pt x="20982" y="7199"/>
                </a:moveTo>
                <a:arcTo wR="10800" hR="10800" stAng="-1168553" swAng="9918995"/>
              </a:path>
            </a:pathLst>
          </a:custGeom>
          <a:solidFill>
            <a:srgbClr val="45c98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1816200" y="4111560"/>
            <a:ext cx="9104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367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36768"/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3120" y="3295440"/>
            <a:ext cx="1591560" cy="1628280"/>
            <a:chOff x="1473120" y="3295440"/>
            <a:chExt cx="1591560" cy="1628280"/>
          </a:xfrm>
        </p:grpSpPr>
        <p:sp>
          <p:nvSpPr>
            <p:cNvPr id="245" name=""/>
            <p:cNvSpPr/>
            <p:nvPr/>
          </p:nvSpPr>
          <p:spPr>
            <a:xfrm flipV="1">
              <a:off x="1473120" y="3295440"/>
              <a:ext cx="794520" cy="16282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270160" y="3295440"/>
              <a:ext cx="794520" cy="162828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 rot="19481400">
            <a:off x="2089080" y="2976120"/>
            <a:ext cx="209880" cy="35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82" y="7199"/>
                </a:moveTo>
                <a:arcTo wR="10800" hR="10800" stAng="-1168553" swAng="9918995"/>
                <a:lnTo>
                  <a:pt x="10800" y="10800"/>
                </a:lnTo>
                <a:close/>
              </a:path>
              <a:path fill="none" w="21600" h="21600">
                <a:moveTo>
                  <a:pt x="20982" y="7199"/>
                </a:moveTo>
                <a:arcTo wR="10800" hR="10800" stAng="-1168553" swAng="9918995"/>
              </a:path>
            </a:pathLst>
          </a:custGeom>
          <a:solidFill>
            <a:srgbClr val="45c98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0960" y="5829480"/>
            <a:ext cx="1231920" cy="55872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0960" y="6013440"/>
            <a:ext cx="74520" cy="11448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6560" y="6013440"/>
            <a:ext cx="74520" cy="11448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0960" y="6026040"/>
            <a:ext cx="0" cy="98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0960" y="5749920"/>
            <a:ext cx="1231920" cy="55872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92880" y="6026040"/>
            <a:ext cx="0" cy="98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4817160" y="5958360"/>
            <a:ext cx="146520" cy="11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806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80666"/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32280" y="2765520"/>
            <a:ext cx="114480" cy="3247920"/>
          </a:xfrm>
          <a:custGeom>
            <a:avLst/>
            <a:gdLst/>
            <a:ahLst/>
            <a:rect l="l" t="t" r="r" b="b"/>
            <a:pathLst>
              <a:path w="48" h="2256">
                <a:moveTo>
                  <a:pt x="0" y="2256"/>
                </a:moveTo>
                <a:lnTo>
                  <a:pt x="0" y="0"/>
                </a:lnTo>
                <a:lnTo>
                  <a:pt x="48" y="0"/>
                </a:lnTo>
                <a:lnTo>
                  <a:pt x="48" y="2256"/>
                </a:lnTo>
              </a:path>
            </a:pathLst>
          </a:custGeom>
          <a:solidFill>
            <a:srgbClr val="45c984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1240000">
            <a:off x="2205000" y="2727000"/>
            <a:ext cx="5364360" cy="68400"/>
          </a:xfrm>
          <a:prstGeom prst="rect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2971800"/>
            <a:ext cx="129960" cy="12852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85120" y="2408400"/>
            <a:ext cx="128520" cy="12996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1240" y="2666880"/>
            <a:ext cx="187200" cy="187560"/>
          </a:xfrm>
          <a:prstGeom prst="ellipse">
            <a:avLst/>
          </a:prstGeom>
          <a:solidFill>
            <a:srgbClr val="45c984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Finansijska struktura bespovratne pomoći/pravila sufinansiranj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1.3.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a za aplikant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39080" y="3525840"/>
            <a:ext cx="136368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in 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ax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6400" y="1959120"/>
            <a:ext cx="258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00"/>
                </a:solidFill>
                <a:latin typeface="Arial"/>
                <a:ea typeface="Arial"/>
              </a:rPr>
              <a:t>Su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finan</a:t>
            </a:r>
            <a:r>
              <a:rPr b="1" lang="sr-Latn-BA" sz="2400" spc="-1" strike="noStrike">
                <a:solidFill>
                  <a:srgbClr val="ffff00"/>
                </a:solidFill>
                <a:latin typeface="Arial"/>
                <a:ea typeface="Arial"/>
              </a:rPr>
              <a:t>si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85960" y="4106880"/>
            <a:ext cx="13795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in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Max 8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38320" y="2122560"/>
            <a:ext cx="235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sr-Latn-BA" sz="2400" spc="-1" strike="noStrike">
                <a:solidFill>
                  <a:srgbClr val="ffff00"/>
                </a:solidFill>
                <a:latin typeface="Arial"/>
                <a:ea typeface="Arial"/>
              </a:rPr>
              <a:t>Bespovratna pomo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3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Garamond"/>
              </a:rPr>
              <a:t>Kako se računa sopstveno učešć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429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00ff00"/>
                </a:solidFill>
                <a:latin typeface="Arial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Ukupna vrednost projekta: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1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Iznos koji se traži od EU: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  8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Iznos sopstvenog učešća: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00ff00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Arial"/>
              </a:rPr>
              <a:t>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Iznos koji hoćemo da “uzmemo” od EU: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10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Mi kofinansiramo 15%: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Ukupna vrednost projekta: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sr-Latn-BA" sz="2400" spc="-1" strike="noStrike">
                <a:solidFill>
                  <a:srgbClr val="ff3300"/>
                </a:solidFill>
                <a:latin typeface="Arial"/>
              </a:rPr>
              <a:t>1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1844640"/>
            <a:ext cx="1008000" cy="720720"/>
          </a:xfrm>
          <a:prstGeom prst="ellipse">
            <a:avLst/>
          </a:prstGeom>
          <a:noFill/>
          <a:ln w="2556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995640" y="3933720"/>
            <a:ext cx="86364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00"/>
                </a:solidFill>
                <a:latin typeface="Garamond"/>
              </a:rPr>
              <a:t>Finansiranje u pridruženoj teritor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429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Do 20% ukupne alokacije za CG = 216.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 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Najbolji predlozi koji sadrže aktivnosti u pridruženoj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blasti</a:t>
            </a:r>
            <a:r>
              <a:rPr b="0" lang="sr-Latn-BA" sz="2400" spc="-1" strike="noStrike">
                <a:solidFill>
                  <a:srgbClr val="ffffff"/>
                </a:solidFill>
                <a:latin typeface="Arial"/>
              </a:rPr>
              <a:t> će biti finansirani sve dok sredstva ne budu iscrplj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abir projektnih predloga u pridruženoj teritoriji će biti,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 svaki pojedinačni slučaj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potvrđen od strane Evropske komisi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Raspodela finansijskih sredst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71560" y="1979640"/>
          <a:ext cx="7738920" cy="4049640"/>
        </p:xfrm>
        <a:graphic>
          <a:graphicData uri="http://schemas.openxmlformats.org/drawingml/2006/table">
            <a:tbl>
              <a:tblPr/>
              <a:tblGrid>
                <a:gridCol w="2554200"/>
                <a:gridCol w="2554200"/>
                <a:gridCol w="2630520"/>
              </a:tblGrid>
              <a:tr h="96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pis m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PA 2007 i 2008 za 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PA 2007 i 2008 za C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a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,000 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,000 €</a:t>
                      </a:r>
                      <a:r>
                        <a:rPr b="0" lang="sr-Latn-B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a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0,000 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,000 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KUP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00,000 €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,080,000 €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Avansno plaćan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8360" y="1197000"/>
          <a:ext cx="8139240" cy="4788000"/>
        </p:xfrm>
        <a:graphic>
          <a:graphicData uri="http://schemas.openxmlformats.org/drawingml/2006/table">
            <a:tbl>
              <a:tblPr/>
              <a:tblGrid>
                <a:gridCol w="1130400"/>
                <a:gridCol w="3504960"/>
                <a:gridCol w="3503880"/>
              </a:tblGrid>
              <a:tr h="1240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pcija 1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ktivnosti sa periodom sprovođenja koji ne prelazi 12 meseci, ili gde finansiranje od strane Ugovornog tela ne prelaz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UR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Opcija 2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ktivnosti sa periodom sprovođenja koji prelazi 12 meseci, i g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 finansiranje od strane Ugovornog tela prelazi EUR 100.000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vansn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BA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lać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0% od ukupnog iznosa bespovratne pomoć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0% od predviđenog dela budžeta za prvih 12 mesec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alje</a:t>
                      </a:r>
                      <a:r>
                        <a:rPr b="0" lang="sr-Latn-BA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vansira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Nije 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redviđe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je potrošeno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jmanje 70% od poslednje uplate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mpletan izno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plata pre poslednje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lje avansiranje 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kriv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narednih 12 mesec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htevi 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propraćeni izveštajem i verifikacijom troškova (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k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e to zahtev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Up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Konačno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zno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ostali iznos će biti isplaćen u roku od 45 dana od dana odobravanja konačnog izveštaja od strane Ugovornog tela, propraćen zahtevom za plaćanje preostalog iznosa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ostali iznos će biti isplaćen u roku od 45 dana od dana odobravanja konačnog izveštaja od strane Ugovornog tela, propraćen zahtevom za plaćanje preostalog iznosa i izveštajem o verifikaciji troškova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!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(2. </a:t>
            </a: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Upustvo za podnosioce</a:t>
            </a: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)</a:t>
            </a: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458720"/>
            <a:ext cx="9144000" cy="15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PRAVILA 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JAVNOG POZ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3495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Kriterijumi prihvatljiv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ubPieSlice"/>
          <p:cNvSpPr/>
          <p:nvPr/>
        </p:nvSpPr>
        <p:spPr>
          <a:xfrm>
            <a:off x="1449360" y="2039760"/>
            <a:ext cx="6570720" cy="467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97" y="0"/>
                </a:moveTo>
                <a:arcTo wR="10800" hR="10800" stAng="-5400916" swAng="-5410974"/>
                <a:lnTo>
                  <a:pt x="10800" y="10800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ubPieSlice"/>
          <p:cNvSpPr/>
          <p:nvPr/>
        </p:nvSpPr>
        <p:spPr>
          <a:xfrm flipH="1">
            <a:off x="1582560" y="2039760"/>
            <a:ext cx="6570720" cy="467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11890"/>
                <a:lnTo>
                  <a:pt x="10800" y="108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ubPieSlice"/>
          <p:cNvSpPr/>
          <p:nvPr/>
        </p:nvSpPr>
        <p:spPr>
          <a:xfrm flipV="1">
            <a:off x="1407960" y="2154600"/>
            <a:ext cx="6570720" cy="466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11890"/>
                <a:lnTo>
                  <a:pt x="10800" y="108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ubPieSlice"/>
          <p:cNvSpPr/>
          <p:nvPr/>
        </p:nvSpPr>
        <p:spPr>
          <a:xfrm flipH="1" flipV="1">
            <a:off x="1512360" y="2154960"/>
            <a:ext cx="6570720" cy="466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5411890"/>
                <a:lnTo>
                  <a:pt x="1080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33720" y="3336840"/>
            <a:ext cx="3532320" cy="22687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sr-Latn-BA" sz="2400" spc="-1" strike="noStrike">
                <a:solidFill>
                  <a:srgbClr val="000080"/>
                </a:solidFill>
                <a:latin typeface="Garamond"/>
              </a:rPr>
              <a:t>Kriterijumi prihvatljiv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813600">
            <a:off x="2091240" y="3008520"/>
            <a:ext cx="255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1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Prihvatljivost podnosi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443800">
            <a:off x="4901760" y="3149280"/>
            <a:ext cx="29494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2 Partner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stvo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i prihvatljivost part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2443800">
            <a:off x="2098440" y="5163480"/>
            <a:ext cx="243504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4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Prihvatljivost trošk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643200">
            <a:off x="5700600" y="5013360"/>
            <a:ext cx="197640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.1.3 </a:t>
            </a: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Prihvatljiv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r-Latn-BA" sz="2000" spc="-1" strike="noStrike">
                <a:solidFill>
                  <a:srgbClr val="ff0000"/>
                </a:solidFill>
                <a:latin typeface="Arial Narrow"/>
              </a:rPr>
              <a:t>aktiv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o može podneti projekat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?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1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09700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500" spc="-1" strike="noStrike">
                <a:solidFill>
                  <a:srgbClr val="ff3300"/>
                </a:solidFill>
                <a:latin typeface="Garamond"/>
              </a:rPr>
              <a:t>Da bi bili prihvatljivi za dodelu bespovratne pomoći, podnosioci predloga projekata moraju</a:t>
            </a:r>
            <a:r>
              <a:rPr b="1" lang="en-GB" sz="3500" spc="-1" strike="noStrike">
                <a:solidFill>
                  <a:srgbClr val="ff3300"/>
                </a:solidFill>
                <a:latin typeface="Garamond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biti osnovani u Srbiji, Crnoj Gori, zemlji članici EU,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nekoj od </a:t>
            </a: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ostalih zemalja korisnica IPA instrumenta,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Evropskog instrumenta za susedske i programe partnerstva (ENPI), ili zemlji članici Evropske ekonomske oblasti (EEA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BA" sz="2200" spc="-1" strike="noStrike">
                <a:solidFill>
                  <a:srgbClr val="ffffff"/>
                </a:solidFill>
                <a:latin typeface="Arial"/>
              </a:rPr>
              <a:t>biti neprofitna organizacija/instituci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ff66"/>
                </a:solidFill>
                <a:latin typeface="Garamond"/>
              </a:rPr>
              <a:t>Dnevni red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855972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0:00 –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entacija Uputstva za podnosioce predlog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  projek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1:00 – 11: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Pau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1: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– 11:30 Prezentacija matrice logičkog okv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7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:30 –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:50 Prezentacija Prijavnog obras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1:50 – 12:00 Prezentacija budže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12:00 – 14:00 Diskusija – pitanja i odgov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odnosioci predloga projekata moraju pripadati jednoj od sledećih kategorij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2240" y="2157120"/>
            <a:ext cx="4349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Lokalne uprave i njihove institu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Udruženja opštin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Razvojne agen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Organizacije za podršku biznisu i socijalni partneri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Organizacije i udruženja iz oblasti turizma i kultur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NVO-i, uključujući i nacionalna udruženja Crvenog krsta i Crvenog polumesec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Javne i privatne ustanove za zapošljavanje (centri za otvaranje novih radnih mesta i slično)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720" y="1703160"/>
            <a:ext cx="40132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48280" y="2276640"/>
            <a:ext cx="4095720" cy="35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Institucije za stručnu i tehničku obuku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Državne institucije ili agen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Arial"/>
              </a:rPr>
              <a:t>Organi odgovorni za zaštitu prirode (uključujući i NVO-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Javne ustanove/institucije odgovorne za upravljanje vodam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Službe zaštite (vatrogasne, službe hitne pomoći, i dr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Škol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Fakulteti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Univerziteti i istraživački centri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Međunarodne među-vladine organizacije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>
                <a:solidFill>
                  <a:srgbClr val="ffff00"/>
                </a:solidFill>
                <a:latin typeface="Garamond"/>
              </a:rPr>
              <a:t>I</a:t>
            </a:r>
            <a:r>
              <a:rPr b="0" lang="en-GB" sz="4000" spc="-1" strike="noStrike">
                <a:solidFill>
                  <a:srgbClr val="ffff00"/>
                </a:solidFill>
                <a:latin typeface="Garamond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82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biti direktno odgovorni za pripremu i upravljanje aktivnostima sa svojim partnerima, a ne da nastupaju kao posrednici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da ne budu u potencijalnom konfliktu interesa sa zajedničkim strukturama Programa (ZNO, ZOE, ZTS) i operativnim strukturama (Ministarstvo za evr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ke integracije Vlade Crne Gore i Ministarstva finansija Republike Srbije). Ukoliko dođe do ovakvih situacija tokom izvršenja ugovora, korisnik mora odmah informisati Ugo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no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 telo o t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88920" y="3673440"/>
            <a:ext cx="8129520" cy="308448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NISTE PRIHVATLJIVI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Ukoliko se nalazite u nekoj od situacija navedenih u Uputstvu za aplikante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ili u sekciji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.3.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aktičn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o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vodič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kroz procedure ugovaranja pomoći EZ trećim zemlja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66"/>
                </a:solidFill>
                <a:latin typeface="Garamond"/>
                <a:ea typeface="Arial"/>
              </a:rPr>
              <a:t>Dostupno na</a:t>
            </a:r>
            <a:r>
              <a:rPr b="1" lang="en-GB" sz="1800" spc="-1" strike="noStrike">
                <a:solidFill>
                  <a:srgbClr val="ffff66"/>
                </a:solidFill>
                <a:latin typeface="Garamond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Garamond"/>
                <a:ea typeface="Arial"/>
              </a:rPr>
              <a:t>http://ec.europa.eu/europeaid/work/porecudres/index_en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541800" y="-360"/>
            <a:ext cx="70930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artnerstva i prihvatljivost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artnera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(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2.1.2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3640" y="2757600"/>
            <a:ext cx="8631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Svaki podnosilac može imati onoliko partnera koliko smatra za potrebno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artneri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m</a:t>
            </a:r>
            <a:r>
              <a:rPr b="1" lang="sr-Latn-BA" sz="2800" spc="-1" strike="noStrike">
                <a:solidFill>
                  <a:srgbClr val="ff0000"/>
                </a:solidFill>
                <a:latin typeface="Garamond"/>
              </a:rPr>
              <a:t>oraju zadovoljiti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iste kriterijume prihvatljivosti kao i podnosioci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Svaki projektni predlog mora uključiti najmanje jednog podnosioca ili partnera iz Srbije i najmanje jednog podnosioca ili partnera iz Crne G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Svi partneri moraju potpisati Izjavu o partnerstv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4720" y="1125360"/>
            <a:ext cx="3059280" cy="1614600"/>
          </a:xfrm>
          <a:prstGeom prst="cloudCallout">
            <a:avLst>
              <a:gd name="adj1" fmla="val -65722"/>
              <a:gd name="adj2" fmla="val 29254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0000"/>
                </a:solidFill>
                <a:latin typeface="Garamond"/>
                <a:ea typeface="Arial"/>
              </a:rPr>
              <a:t>Svaki predlog mora imati dva podnosioca koja nastupaju u partnerstv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352680" y="5018760"/>
            <a:ext cx="860400" cy="908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000080"/>
                </a:solidFill>
                <a:latin typeface="Garamond"/>
              </a:rPr>
              <a:t>V</a:t>
            </a: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03320" y="4430880"/>
            <a:ext cx="256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66"/>
                </a:solidFill>
                <a:latin typeface="Arial"/>
                <a:ea typeface="Arial"/>
              </a:rPr>
              <a:t>Koordiniranje i sprovođenje projekta na nivou države, transfer dobijenih sredstava (granta) ostalim partner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343400"/>
            <a:ext cx="266688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735360"/>
            <a:ext cx="1295280" cy="1684440"/>
          </a:xfrm>
          <a:prstGeom prst="ellipse">
            <a:avLst/>
          </a:prstGeom>
          <a:solidFill>
            <a:srgbClr val="cc99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F</a:t>
            </a:r>
            <a:r>
              <a:rPr b="1" lang="sr-Latn-BA" sz="1800" spc="-1" strike="noStrike">
                <a:solidFill>
                  <a:srgbClr val="000099"/>
                </a:solidFill>
                <a:latin typeface="Garamond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Prekogranično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artnerst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038480"/>
            <a:ext cx="1066680" cy="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581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ff"/>
                </a:solidFill>
                <a:latin typeface="Arial"/>
              </a:rPr>
              <a:t>Zemlj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ff"/>
                </a:solidFill>
                <a:latin typeface="Arial"/>
              </a:rPr>
              <a:t>Zemlj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12080" y="2995560"/>
            <a:ext cx="1979640" cy="1940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80"/>
                </a:solidFill>
                <a:latin typeface="Arial"/>
                <a:ea typeface="Arial"/>
              </a:rPr>
              <a:t>Strukture odgovorne za upravljanje prekograničnih prog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2580480"/>
            <a:ext cx="860400" cy="908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1818360"/>
            <a:ext cx="860400" cy="90828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2504160"/>
            <a:ext cx="860400" cy="908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5628240"/>
            <a:ext cx="860400" cy="908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3037680"/>
            <a:ext cx="860400" cy="908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000080"/>
                </a:solidFill>
                <a:latin typeface="Garamond"/>
              </a:rPr>
              <a:t>V</a:t>
            </a: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17120" y="2106720"/>
            <a:ext cx="24544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  <a:ea typeface="Arial"/>
              </a:rPr>
              <a:t>Sprovode i odgovaraj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  <a:ea typeface="Arial"/>
              </a:rPr>
              <a:t>za sopstvene akti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  <a:ea typeface="Arial"/>
              </a:rPr>
              <a:t>Izveštavaju V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2057400"/>
            <a:ext cx="2286000" cy="15228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648320" y="2209680"/>
            <a:ext cx="609480" cy="53352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3200400"/>
            <a:ext cx="762120" cy="2286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666880"/>
            <a:ext cx="76320" cy="38124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3048120"/>
            <a:ext cx="457200" cy="3045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52480" y="2209320"/>
            <a:ext cx="3505320" cy="76212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540216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cc99ff"/>
                </a:solidFill>
                <a:latin typeface="Arial"/>
                <a:ea typeface="Arial"/>
              </a:rPr>
              <a:t>Ukupna kordinacija projektnih aktivnosti na obe strane granice, izveštava Z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3733920"/>
            <a:ext cx="1066680" cy="68580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9828000">
            <a:off x="5560560" y="4157280"/>
            <a:ext cx="1436760" cy="304920"/>
          </a:xfrm>
          <a:prstGeom prst="rightArrow">
            <a:avLst>
              <a:gd name="adj1" fmla="val 50000"/>
              <a:gd name="adj2" fmla="val 117798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371600" y="3657600"/>
            <a:ext cx="990720" cy="53352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971800" y="5734080"/>
            <a:ext cx="447840" cy="28584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105520"/>
            <a:ext cx="609480" cy="228600"/>
          </a:xfrm>
          <a:prstGeom prst="line">
            <a:avLst/>
          </a:prstGeom>
          <a:ln w="1908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114800" y="5028840"/>
            <a:ext cx="304920" cy="228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20556600">
            <a:off x="5638320" y="4419360"/>
            <a:ext cx="1524240" cy="30456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2057400"/>
            <a:ext cx="2438280" cy="1143000"/>
          </a:xfrm>
          <a:prstGeom prst="rect">
            <a:avLst/>
          </a:prstGeom>
          <a:noFill/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5257800"/>
            <a:ext cx="2819520" cy="129528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987280" y="4941720"/>
            <a:ext cx="1368360" cy="93528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3237E-006 L 0.11823 -0.12578 E">
                                      <p:cBhvr>
                                        <p:cTn id="162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remove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Vodeći Podnosil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4120" y="2009880"/>
            <a:ext cx="577224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Svaki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600" spc="-1" strike="noStrike">
                <a:solidFill>
                  <a:srgbClr val="ff0000"/>
                </a:solidFill>
                <a:latin typeface="Garamond"/>
              </a:rPr>
              <a:t>podnosilac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će nastupati kao 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0000"/>
                </a:solidFill>
                <a:latin typeface="Garamond"/>
              </a:rPr>
              <a:t>Vodeći</a:t>
            </a:r>
            <a:r>
              <a:rPr b="1" lang="en-GB" sz="2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hr-HR" sz="2600" spc="-1" strike="noStrike">
                <a:solidFill>
                  <a:srgbClr val="ff0000"/>
                </a:solidFill>
                <a:latin typeface="Garamond"/>
              </a:rPr>
              <a:t>Podnosilac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za deo aktivnosti čije troškove će on podnositi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t.j.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za deo aktivnosti finansiranih iz IPA CBC finansijske alokacije za Srbiju ili Crnu Goru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Ukoliko budu odabrani, svaki podnosilac će nastupati kao ugovaračka strana 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("</a:t>
            </a:r>
            <a:r>
              <a:rPr b="1" lang="sr-Latn-BA" sz="2600" spc="-1" strike="noStrike">
                <a:solidFill>
                  <a:srgbClr val="ff0000"/>
                </a:solidFill>
                <a:latin typeface="Garamond"/>
              </a:rPr>
              <a:t>Korisnik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") </a:t>
            </a:r>
            <a:r>
              <a:rPr b="1" lang="sr-Latn-BA" sz="2600" spc="-1" strike="noStrike">
                <a:solidFill>
                  <a:srgbClr val="ffffff"/>
                </a:solidFill>
                <a:latin typeface="Garamond"/>
              </a:rPr>
              <a:t>i potpisaće odvojen ugovor  sa Ugovornim telo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283440" y="2333520"/>
            <a:ext cx="2717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Funkcionalni vodeći podnosil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4840" y="2052360"/>
            <a:ext cx="83595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Podnosioci takođe moraju međusobno odrediti </a:t>
            </a:r>
            <a:r>
              <a:rPr b="1" lang="en-GB" sz="2400" spc="-1" strike="noStrike">
                <a:solidFill>
                  <a:srgbClr val="ff3300"/>
                </a:solidFill>
                <a:latin typeface="Garamond"/>
              </a:rPr>
              <a:t>Fun</a:t>
            </a:r>
            <a:r>
              <a:rPr b="1" lang="sr-Latn-BA" sz="2400" spc="-1" strike="noStrike">
                <a:solidFill>
                  <a:srgbClr val="ff3300"/>
                </a:solidFill>
                <a:latin typeface="Garamond"/>
              </a:rPr>
              <a:t>k</a:t>
            </a:r>
            <a:r>
              <a:rPr b="1" lang="en-GB" sz="2400" spc="-1" strike="noStrike">
                <a:solidFill>
                  <a:srgbClr val="ff3300"/>
                </a:solidFill>
                <a:latin typeface="Garamond"/>
              </a:rPr>
              <a:t>c</a:t>
            </a:r>
            <a:r>
              <a:rPr b="1" lang="sr-Latn-BA" sz="2400" spc="-1" strike="noStrike">
                <a:solidFill>
                  <a:srgbClr val="ff3300"/>
                </a:solidFill>
                <a:latin typeface="Garamond"/>
              </a:rPr>
              <a:t>ionalnog vodećeg podnosioca</a:t>
            </a:r>
            <a:r>
              <a:rPr b="1" lang="en-GB" sz="24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koji će biti odgovoran za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Sveobuhvatnu koordinaciju projektnih aktivnosti sa obe strane granice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Organizovanje zajedničkih sastanaka projektnih partnera, razmenu informacija i redovnu komunikaciju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Izveštavanje prema Zajedničkom tehničkom sekretarijatu o projektnim aktivnos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9000" y="2136600"/>
            <a:ext cx="1622160" cy="17020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3300"/>
                </a:solidFill>
                <a:latin typeface="Garamond"/>
                <a:ea typeface="Arial"/>
              </a:rPr>
              <a:t>Sarad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6920" y="4300560"/>
            <a:ext cx="1658880" cy="1701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3300"/>
                </a:solidFill>
                <a:latin typeface="Garamond"/>
              </a:rPr>
              <a:t>Podugovarač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21040" y="2300040"/>
            <a:ext cx="6919920" cy="14292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Uzimaju stvarnog učešća u aktivnostima, al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e mogu primiti sredstva bespovratne pomoći, sa izuzetkom troškova za dnevnice i putnih troško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Ne moraju ispunjavati kriterijume prihvatljivosti navedene u sekcij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1.1.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Uputstva za podnosi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08080" y="4343040"/>
            <a:ext cx="6918480" cy="17035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Nisu ni partneri ni saradnici i za njih važe pravila javnih nabavki navedena u Aneksu IV standardnog ugovora o bespovratnoj pomoć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Podnosioci će postupati kao vodeća organizacija i, ako budu odabrani, kao ugovaračka strana (“Korisnik”) za podugovaran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aradnici i podugovarač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Prihvatljivost projektnih aktivnosti</a:t>
            </a:r>
            <a:br>
              <a:rPr sz="3600"/>
            </a:br>
            <a:r>
              <a:rPr b="1" lang="en-GB" sz="3600" spc="-1" strike="noStrike">
                <a:solidFill>
                  <a:srgbClr val="ffff66"/>
                </a:solidFill>
                <a:latin typeface="Garamond"/>
              </a:rPr>
              <a:t>(2.1.3 </a:t>
            </a: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66"/>
                </a:solidFill>
                <a:latin typeface="Garamond"/>
              </a:rPr>
              <a:t>)</a:t>
            </a: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0499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rojekat mora uključivati prekograničnu saradnju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kako bi bio prihvatljiv, t.j. mo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Sprovoditi se u programskoj oblasti u Srbiji i/ili Crnoj Gori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imati uticaj i na srpskom i na crnogorskom delu programske obla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3786480"/>
            <a:ext cx="8031240" cy="20221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2271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00"/>
                </a:solidFill>
                <a:latin typeface="Arial"/>
                <a:ea typeface="Arial"/>
              </a:rPr>
              <a:t>Predviđa saradnju dva prekogranična podnosioca u najmanje jednom od četiri moguća način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a pripr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o sprovođenj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i projektni tim 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 </a:t>
            </a:r>
            <a:r>
              <a:rPr b="0" lang="sr-Latn-BA" sz="2000" spc="-1" strike="noStrike">
                <a:solidFill>
                  <a:srgbClr val="ffffff"/>
                </a:solidFill>
                <a:latin typeface="Arial"/>
                <a:ea typeface="Arial"/>
              </a:rPr>
              <a:t>zajedničko finansira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rajanj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3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2171880"/>
            <a:ext cx="342576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Mera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12 – 24 mese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Object 7"/>
          <p:cNvGraphicFramePr/>
          <p:nvPr/>
        </p:nvGraphicFramePr>
        <p:xfrm>
          <a:off x="3176640" y="3681360"/>
          <a:ext cx="251604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3681360"/>
                    <a:ext cx="251604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5013360" y="2162160"/>
            <a:ext cx="34257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3300"/>
                </a:solidFill>
                <a:latin typeface="Garamond"/>
              </a:rPr>
              <a:t>Mera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6 – 12 mese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Lo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acij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–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o područj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3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11280" y="1628640"/>
          <a:ext cx="8057880" cy="4719600"/>
        </p:xfrm>
        <a:graphic>
          <a:graphicData uri="http://schemas.openxmlformats.org/drawingml/2006/table">
            <a:tbl>
              <a:tblPr/>
              <a:tblGrid>
                <a:gridCol w="1900080"/>
                <a:gridCol w="2019240"/>
                <a:gridCol w="2086200"/>
                <a:gridCol w="2052360"/>
              </a:tblGrid>
              <a:tr h="781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Srbija</a:t>
                      </a:r>
                      <a:r>
                        <a:rPr b="1" lang="en-GB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 (</a:t>
                      </a:r>
                      <a:r>
                        <a:rPr b="1" lang="sr-Latn-BA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opštine</a:t>
                      </a:r>
                      <a:r>
                        <a:rPr b="1" lang="en-GB" sz="24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280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Crna Gora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 (</a:t>
                      </a:r>
                      <a:r>
                        <a:rPr b="1" lang="sr-Latn-BA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opštine</a:t>
                      </a:r>
                      <a:r>
                        <a:rPr b="1" lang="en-GB" sz="24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28080">
                      <a:solidFill>
                        <a:srgbClr val="ffff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rihvatljiva </a:t>
                      </a:r>
                      <a:r>
                        <a:rPr b="1" lang="hr-HR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Pridru</a:t>
                      </a:r>
                      <a:r>
                        <a:rPr b="1" lang="sr-Latn-BA" sz="20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že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ff66"/>
                          </a:solidFill>
                          <a:latin typeface="Garamond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Prihvatljiv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9900"/>
                          </a:solidFill>
                          <a:latin typeface="Garamond"/>
                        </a:rPr>
                        <a:t>obla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Pridružen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obla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8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ž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jina Baš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že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sjeri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ajet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il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bo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a Varo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jepol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jen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š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i Paz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ut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ralje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rnjačka Banj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jevl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jelo Pol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ra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ža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a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ndrijev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laš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jkov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Žablj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ž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vn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kšić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go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nilovgr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etinj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adržaj</a:t>
            </a: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0040" y="1979280"/>
            <a:ext cx="7935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Prekogranični program Srbija – Crna Gor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Pravila prvog Javnog poz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javni</a:t>
            </a: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 pa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Proces ocenjivanja i izbora projek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5019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518760"/>
            <a:ext cx="3587760" cy="1809000"/>
          </a:xfrm>
          <a:prstGeom prst="irregularSeal2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Sledeća lista nije konačna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760" y="1700280"/>
            <a:ext cx="893124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Garamond"/>
                <a:ea typeface="Arial"/>
              </a:rPr>
              <a:t>	</a:t>
            </a:r>
            <a:r>
              <a:rPr b="1" lang="sr-Latn-BA" sz="2400" spc="-1" strike="noStrike">
                <a:solidFill>
                  <a:srgbClr val="ff0000"/>
                </a:solidFill>
                <a:latin typeface="Garamond"/>
                <a:ea typeface="Arial"/>
              </a:rPr>
              <a:t>	</a:t>
            </a:r>
            <a:r>
              <a:rPr b="1" lang="sr-Latn-BA" sz="2400" spc="-1" strike="noStrike">
                <a:solidFill>
                  <a:srgbClr val="ff0000"/>
                </a:solidFill>
                <a:latin typeface="Garamond"/>
                <a:ea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Garamond"/>
                <a:ea typeface="Arial"/>
              </a:rPr>
              <a:t>Ekonomske 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Podrška zajedničkim inovativnim projektima u cilju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predstavljanja novih praksi u turizmu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Marketinške i zajedničke aktivnosti u cilju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unapređenja karakterističnih proizvoda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 u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koj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 oblast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Razvoj aktivnosti usmerenih ka podršci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saradnji između MSP, obrazovnih i istraživačko</a:t>
            </a: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  <a:ea typeface="Arial"/>
              </a:rPr>
              <a:t>razvojnih organizacija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  <a:ea typeface="Arial"/>
              </a:rPr>
              <a:t> u cilju unapređenja poslovne inovativnosti i tehnologije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Zajednički projekti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stručnog usavršavanja/obrazovanja odraslih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koji se bave zahtevima 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tr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žišta i nedostacima stručne radne snage u pojedinim oblastim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(ponovnoj)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izgradnji ili unapređenju sitne turističke infrastruktur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(pešačke staze, biciklističke staze, opremanje vizitorskih centara, informacionih punktova, umrežavanje turističkih centara)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Studije izvodljivost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za pripremu projektnih aktivnosti za veće projekte sa snažnim prekograničnim efektn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tudije arhitektonskog i urbanog planiranj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2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sr-Latn-BA" sz="3200" spc="-1" strike="noStrike">
                <a:solidFill>
                  <a:srgbClr val="ff0000"/>
                </a:solidFill>
                <a:latin typeface="Garamond"/>
              </a:rPr>
              <a:t>Zaštita životne 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ojekti sa ciljem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smanjenja negativnih uticaja na životnu sredinu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 pospešivanje ekonomskih aktivnosti koje ne ugrožavaju životnu sredinu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unapređenju sistema za upravljanje otpadnim vodama i čvrstim otpadom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u cilju zaštite područja od daljeg zagađenj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ojekti sa ciljem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zaštite od prirodnih nepogoda i rizika po životnu sredinu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zazvanu ljudskim faktorom i njihovim upravljanjem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ekogranična saradnja između organizacija koje se bave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zaštitom životne sredine i upravljanjem rezervatima prirode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Priprema studija izvodljivosti i ostale tehničke dokumentacij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za velike infrastrukturne intervencije, koje bi bile finansirane iz izvora izvan ovog program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Studije arhitektonskog i prostornog planiranj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Biološke i studije koje se odnose na biodiverzitet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16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sr-Latn-BA" sz="3200" spc="-1" strike="noStrike">
                <a:solidFill>
                  <a:srgbClr val="ff0000"/>
                </a:solidFill>
                <a:latin typeface="Garamond"/>
              </a:rPr>
              <a:t>Društvena kohe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rojekti u cilju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unapređenja protoka informacija i komunikacij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zmeđu 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ograničnih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region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borbi protiv diskriminacije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uključujući i bilateralne akcije za zajedničko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rešavanje društvenih problem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zajedničkim programima baziran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korišćenju multietničkih vrednost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zajedničkim aktivnostima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zaštite zdravlja i sličnim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, kao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 i izgradnja održivog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istema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za podizanje svesti o značaju zdravstvene zaštite pogotovo za ugrožene grupe i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Rome</a:t>
            </a:r>
            <a:r>
              <a:rPr b="1" lang="sr-Latn-BA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Podrška upoznavanju sa praksama i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modelima Evropske unije za promociju zdravlja u</a:t>
            </a:r>
            <a:r>
              <a:rPr b="1" lang="sr-Latn-BA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3300"/>
                </a:solidFill>
                <a:latin typeface="Arial"/>
              </a:rPr>
              <a:t>školama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5019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M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era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1.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56240" y="880560"/>
            <a:ext cx="3587760" cy="1809000"/>
          </a:xfrm>
          <a:prstGeom prst="irregularSeal2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Arial"/>
                <a:ea typeface="Arial"/>
              </a:rPr>
              <a:t>Sledeća lista nije konačna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  <a:ea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2492280"/>
            <a:ext cx="914400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Zajednička promocija kulturnog nasleđa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 uključujući i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organizovanje kulturnih i sportskih 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ga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đaj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Festivali kulture, muzike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, slavljenje lokalne istorije ili prirodni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atrakcij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Zajednički </a:t>
            </a:r>
            <a:r>
              <a:rPr b="1" lang="sr-Latn-BA" sz="1800" spc="-1" strike="noStrike">
                <a:solidFill>
                  <a:srgbClr val="ff3300"/>
                </a:solidFill>
                <a:latin typeface="Arial"/>
                <a:ea typeface="Arial"/>
              </a:rPr>
              <a:t>naučni i kulturni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 istraživački projekt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Programi obrazovne razmene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 uključujući i organizovanje seminara 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zajedničkog interesa za škole i univerzitet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Aktivnosti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razmene omladine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sa obe strane grani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Organizacija lokalnih izložbi i sajm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2052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440" y="2473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200" spc="-1" strike="noStrike">
                <a:solidFill>
                  <a:srgbClr val="ffffff"/>
                </a:solidFill>
                <a:latin typeface="Arial"/>
              </a:rPr>
              <a:t>Projekti koji se većinski, ili u potpunosti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bave </a:t>
            </a:r>
            <a:r>
              <a:rPr b="0" lang="da-DK" sz="2200" spc="-1" strike="noStrike">
                <a:solidFill>
                  <a:srgbClr val="ffffff"/>
                </a:solidFill>
                <a:latin typeface="Arial"/>
              </a:rPr>
              <a:t>individualnim sponzorstvima za učešće u radionicama, seminarima, konferencijama, kongresim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i se većinski, ili u potpunosti bave individualnim školarinama za studije i kurseve obuk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Kupovina zemljišt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sa ciljem unapređenja infrastrukture i opreme u objektima u privatnom vlasništvu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ipremne studije, ili priprema Idejnog projekta </a:t>
            </a:r>
            <a:r>
              <a:rPr b="0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za radove izvedene u okviru projekt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1700280"/>
            <a:ext cx="4891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Garamond"/>
                <a:ea typeface="Arial"/>
              </a:rPr>
              <a:t>Neprihvatljivi projekt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r>
              <a:rPr b="0" lang="en-GB" sz="44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Garamond"/>
              </a:rPr>
              <a:t>Neprihvatljivi projekt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bez prekograničnog uticaj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i se bave profitnim aktivnostim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povezani sa političkim partijam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i spadaju pod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opšte aktivnosti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adležnih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državnih institucija, ili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užbi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državne upravne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uključujući i lokalne vlast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Tipovi aktiv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Garamond"/>
              </a:rPr>
              <a:t>Neprihvatljivi projekt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koji omogućavaju finansiranje uobičajenih aktivnosti lokalnih organizacija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, posebno oni koj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pokrivaju njihove operativne troško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ograničeni na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donacije u dobrotvorne svrh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jekti koji se odnose n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Duvansku industriju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(CAEN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šifra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16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Proizvodnju alkoholnih pića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(CAEN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šifra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1591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Oružje i municiju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(CAEN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šifra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296)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0572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Broj aplikacija i dodeljenih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bespovratnih pomoći po podnosioc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40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odnosilac može podneti više od jednog predloga projekta u okviru ovog Javnog poz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odnosilac može istovremeno biti partner u drugim projek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Arial"/>
              </a:rPr>
              <a:t>Partneri mogu uzeti učešća u više projektnih predl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547640" y="4221000"/>
          <a:ext cx="6769080" cy="214308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249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Podnosiocu neće biti dodeljeno više od dve bespovratne pomoći u okviru ovog Javnog pozi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24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i to maksimalno jedna bespovratna pomoć po m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ost troškov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1.4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3280" y="2282400"/>
            <a:ext cx="78832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Prihvatljivost direktnih troškova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troškovi koji se direktno vezuju za aktivnosti, npr. materijal, putni troškovi, troškovi osob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Prihvatljivi indirektni troškov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Opšti troškovi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troškovi koji ne mogu biti direktno vezani za aktivnosti, npr. putni troškovi menadžmenta, administrativni troškovi, zakup prostorija, troškovi administrativnog i osoblja za logisti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direktni troškovi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7440" y="1896840"/>
            <a:ext cx="81090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Neophodni za sprovođenje projekta koji su predmet bespovratne pomoć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Nastali tokom sprovođenja projekta, kao što je navedeno u članu 2 Posebnih uslova, sa izuzetkom troškova koji se odnose na troškove finalnog izveštaja i verifikacije troško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Mogu se identifikovati i proverit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bivaju zavedeni u računovodstvu korisnika;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Moraju biti razumn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opravdani i u skladu sa zahtevima valjanog upravljanja finansijama, sa posebnim naglaskom na efektivnost troškova (odnos trošak-kor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Prekogranični program</a:t>
            </a:r>
            <a:r>
              <a:rPr b="1" lang="en-GB" sz="3600" spc="-1" strike="noStrike">
                <a:solidFill>
                  <a:srgbClr val="ffff66"/>
                </a:solidFill>
                <a:latin typeface="Garamond"/>
              </a:rPr>
              <a:t> </a:t>
            </a:r>
            <a:br>
              <a:rPr sz="3600"/>
            </a:b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Srbija – Crna Go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1720" y="1980720"/>
            <a:ext cx="846108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66"/>
                </a:solidFill>
                <a:latin typeface="Garamond"/>
              </a:rPr>
              <a:t>  </a:t>
            </a:r>
            <a:r>
              <a:rPr b="1" lang="sr-Latn-BA" sz="2800" spc="-1" strike="noStrike">
                <a:solidFill>
                  <a:srgbClr val="ffffff"/>
                </a:solidFill>
                <a:latin typeface="Arial"/>
              </a:rPr>
              <a:t>Uputstvo za podnosioce predloga projek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Javni poziv za dostavljanje projektnih predlo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d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žetske alokacije za 2007. i 2008. godi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66"/>
                </a:solidFill>
                <a:latin typeface="Arial"/>
              </a:rPr>
              <a:t>Budžetske linije Srbija</a:t>
            </a:r>
            <a:r>
              <a:rPr b="1" lang="en-GB" sz="1400" spc="-1" strike="noStrike">
                <a:solidFill>
                  <a:srgbClr val="ffff66"/>
                </a:solidFill>
                <a:latin typeface="Garamond"/>
                <a:ea typeface="SimSun"/>
              </a:rPr>
              <a:t>:  IPA 2007 </a:t>
            </a:r>
            <a:r>
              <a:rPr b="1" lang="sr-Latn-BA" sz="1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GB" sz="1400" spc="-1" strike="noStrike">
                <a:solidFill>
                  <a:srgbClr val="ffff66"/>
                </a:solidFill>
                <a:latin typeface="Garamond"/>
                <a:ea typeface="SimSun"/>
              </a:rPr>
              <a:t>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7-22.020401-C1-ELARG DELSR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8-22.020401-C1-ELARG DELSRB 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ff66"/>
                </a:solidFill>
                <a:latin typeface="Arial"/>
              </a:rPr>
              <a:t>Budžetske linije Crna Gora</a:t>
            </a:r>
            <a:r>
              <a:rPr b="1" lang="en-GB" sz="1400" spc="-1" strike="noStrike">
                <a:solidFill>
                  <a:srgbClr val="ffff66"/>
                </a:solidFill>
                <a:latin typeface="Garamond"/>
                <a:ea typeface="SimSun"/>
              </a:rPr>
              <a:t>: IPA 2007 &amp;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7-22.020401-C1-ELARG DELM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  <a:ea typeface="SimSun"/>
              </a:rPr>
              <a:t>BGUE-B2008-22.020401-C1-ELARG DELM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ff3300"/>
                </a:solidFill>
                <a:latin typeface="Arial"/>
              </a:rPr>
              <a:t>KRAJNJI ROK ZA PODNOŠENJE PROJEKTNIH PREDLOGA: 23.09.200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direktni trošk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0920" y="2066400"/>
            <a:ext cx="841068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000" spc="-1" strike="noStrike">
                <a:solidFill>
                  <a:srgbClr val="ff0000"/>
                </a:solidFill>
                <a:latin typeface="Garamond"/>
              </a:rPr>
              <a:t>Troškovi osoblja koje radi na projektu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late plus troškovi socijalnog osiguranja i troškovi ostalih naknad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utovanja i dnevnica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Garamond"/>
              </a:rPr>
              <a:t>za projektni tim i druge osobe koje učestvuju u projektu, pod uslovom da oni ne prelaze visinu onih koji su uobičajeni za Korisnika ili njegove partne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nabavke ili rentiranja opreme i materijal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specijalno u svrhu realizacije projekta, i troškova usluga, pruženih tako da odgovaraju cenama na tržištu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otrošnog materijal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direktni trošk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5200" y="1980720"/>
            <a:ext cx="85917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od-ugovaranja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Troškovi proizašli direktno iz zahteva ugovor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informisanje javnosti, evaluacija samog projekta, revizija, prevod, štampanje, osiguranje, itd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ključujući troškove finansijskih uslug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troškovi transfera i finansijskih garancij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PDV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ukoliko su ispunjeni sledeći uslovi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-  Nemoguć je njegov povraćaj na bilo koji nači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tvrđeno je da je napravljen od strane krajnjeg korisnik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Jasno je naveden u predlogu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Kupovina zemljišta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 iznosu od 10% prihvatljivih troškova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Rezerva za nepredviđene situaci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58720" y="2163600"/>
            <a:ext cx="8002800" cy="39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Rezerva za nepredviđene situacije koj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n</a:t>
            </a: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e prelazi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5%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prihvatljivih direktnih troškova može biti uključena u budžet projekta.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Može biti korištena samo uz prethodno pisano odobrenje od strane DEK-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ihvatljivi indirektni troškovi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(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pšti troškov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06040" y="2433240"/>
            <a:ext cx="748044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Indirektni troškovi nastali tokom sprovođenja projekta mogu biti prihvatljivi za finansiranje,  a </a:t>
            </a:r>
            <a:r>
              <a:rPr b="1" lang="sr-Latn-BA" sz="2800" spc="-1" strike="noStrike">
                <a:solidFill>
                  <a:srgbClr val="ff0000"/>
                </a:solidFill>
                <a:latin typeface="Garamond"/>
              </a:rPr>
              <a:t>ne smeju preći 7%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od ukupnih prihvatljivih direktnih troško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Neprihvatljivi trošk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44320" y="1981080"/>
            <a:ext cx="83530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Porezi, uključujući i PDV (PDV može u izuzetnim, ranije navedenim slučajevima biti i prihvatlji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ine i uvozne obaveze, ili bilo koje druge prov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zije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upovina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znajmljivanje ili lizing zemljišta i postojećih zgrada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včane kazne, finansijski penali, kao i troškovi parničenja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Kupovina polovne opreme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Bankarske provizije, troškovi garancija,  i slične provizi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ubici izazvani kursnim razlik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Garamond"/>
              </a:rPr>
              <a:t>Doprinos u naturi, kreditiranje trećih lica i kamata na d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sr-Latn-CS" sz="3600" spc="-1" strike="noStrike">
                <a:solidFill>
                  <a:srgbClr val="ff0000"/>
                </a:solidFill>
                <a:latin typeface="Garamond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7840" y="2178720"/>
            <a:ext cx="8467560" cy="3316680"/>
          </a:xfrm>
          <a:prstGeom prst="flowChartProcess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66"/>
                </a:solidFill>
                <a:latin typeface="Arial"/>
                <a:ea typeface="Arial"/>
              </a:rPr>
              <a:t>Projekti u okviru bespovratne pomoći ne smeju imati za svrhu generisanje profita kao direktan rezultat projektnih aktivnosti/ aktivnosti finansiranih u okviru projek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66"/>
                </a:solidFill>
                <a:latin typeface="Arial"/>
                <a:ea typeface="Arial"/>
              </a:rPr>
              <a:t>Državni službenici/nameštenici ili zaposleni u javnoj upravi, u državnoj ili lokalnoj administraciji, mogu učestvovati u projektima u okviru ovog Javnog poziva, ali ne mogu primati nadoknade za njihov doprinos projektu, osim njihovih redovnih plata u matičnim institucijama.</a:t>
            </a: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71240" y="1980720"/>
            <a:ext cx="847404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4000" spc="-1" strike="noStrike">
                <a:solidFill>
                  <a:srgbClr val="ff3300"/>
                </a:solidFill>
                <a:latin typeface="Garamond"/>
              </a:rPr>
              <a:t>KAKO PODNETI PREDLOG I PROCEDURE KOJE TREBA SLED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Prijavni pak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9040" y="1979280"/>
            <a:ext cx="787536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66"/>
                </a:solidFill>
                <a:latin typeface="Garamond"/>
              </a:rPr>
              <a:t>DOKUMENTA </a:t>
            </a:r>
            <a:r>
              <a:rPr b="1" lang="en-GB" sz="3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lang="sr-Latn-BA" sz="3200" spc="-1" strike="noStrike">
                <a:solidFill>
                  <a:srgbClr val="ffff66"/>
                </a:solidFill>
                <a:latin typeface="Garamond"/>
              </a:rPr>
              <a:t>koje treba ispuniti</a:t>
            </a:r>
            <a:r>
              <a:rPr b="1" lang="en-GB" sz="3200" spc="-1" strike="noStrike">
                <a:solidFill>
                  <a:srgbClr val="ffff66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e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ks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A: 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 Prijavni formular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(Word form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eks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B: Bud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žet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(Excel form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An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eks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C: 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Matrica logičkog okvira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(Excel form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sr-Latn-CS" sz="3600" spc="-1" strike="noStrike">
                <a:solidFill>
                  <a:srgbClr val="ff3300"/>
                </a:solidFill>
                <a:latin typeface="Garamond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5440" y="1792080"/>
            <a:ext cx="82072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redlozi projekata moraju biti dostavljenji koristeći prijavni obrazac iz paketa za podnošenje predloga projekta 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(Ane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ks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odnosioci moraju podneti predlog projekta na engleskom jeziku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Ispunite prijavni obrazac pažljivo, i što je jasnije moguće, kako bi mogao biti ocenjen valjano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Ručno napisani predlozi projekata neće biti prihvaćeni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Proverite da li su Izjava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podnosioca predloga projekta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 i Izjave o partnerstvu potpisane od strane zakonski opunomoćenog predstavnika relevantne organizaci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Slati samo prijavni formular i objavljene anekse koji moraju biti ispunjeni. Dodatne anekse </a:t>
            </a:r>
            <a:r>
              <a:rPr b="1" lang="sr-Latn-BA" sz="2000" spc="-1" strike="noStrike" u="sng">
                <a:solidFill>
                  <a:srgbClr val="ffffff"/>
                </a:solidFill>
                <a:uFillTx/>
                <a:latin typeface="Garamond"/>
              </a:rPr>
              <a:t>ne treba slati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 flipV="1">
            <a:off x="1042920" y="3361680"/>
            <a:ext cx="7516800" cy="3018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Poštanska ad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Zajednički tehnički sekretarijat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Prekogranični program Srbija – Crna G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Ul. Vladimira Perića Valtera, br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31300 Prijepol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Se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Gde i kako poslati predlog projekt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Predlozi projekta moraju biti dostavljeni u zapečaćenoj koverti putem pošte, putem kurirske službe ili uz ličnu dostavu, na sljedeću adres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ravljačke strukture Progr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3680" y="2629080"/>
            <a:ext cx="1254240" cy="1071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9080" y="2699280"/>
            <a:ext cx="10382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Operati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vn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e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 Stru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k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ture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8080" y="3768840"/>
            <a:ext cx="12398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080" y="3380400"/>
            <a:ext cx="103824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Zajednič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k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i nadzorni odbro</a:t>
            </a:r>
            <a:r>
              <a:rPr b="1" lang="en-US" sz="16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Garamond"/>
              </a:rPr>
              <a:t>(</a:t>
            </a:r>
            <a:r>
              <a:rPr b="1" lang="hr-HR" sz="1600" spc="-1" strike="noStrike">
                <a:solidFill>
                  <a:srgbClr val="ff3300"/>
                </a:solidFill>
                <a:latin typeface="Garamond"/>
              </a:rPr>
              <a:t>ZNO</a:t>
            </a:r>
            <a:r>
              <a:rPr b="1" lang="en-US" sz="1600" spc="-1" strike="noStrike">
                <a:solidFill>
                  <a:srgbClr val="ff3300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r" pos="85215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93720" y="2136600"/>
            <a:ext cx="3511800" cy="43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SRB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0800" y="2136600"/>
            <a:ext cx="3511440" cy="4384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CRNA G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06400" y="2790720"/>
            <a:ext cx="3284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inistarstvo </a:t>
            </a:r>
            <a:r>
              <a:rPr b="1" lang="de-DE" sz="1600" spc="-1" strike="noStrike">
                <a:solidFill>
                  <a:srgbClr val="ffff00"/>
                </a:solidFill>
                <a:latin typeface="Garamond"/>
              </a:rPr>
              <a:t>f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inansija Republike Srbije</a:t>
            </a:r>
            <a:r>
              <a:rPr b="1" lang="en-GB" sz="1600" spc="-1" strike="noStrike">
                <a:solidFill>
                  <a:srgbClr val="ffff00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F</a:t>
            </a:r>
            <a:r>
              <a:rPr b="1" lang="en-GB" sz="1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93720" y="2673360"/>
            <a:ext cx="3511800" cy="10270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57880" y="2790720"/>
            <a:ext cx="3282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inistarstvo za evropske integracije Vlade </a:t>
            </a:r>
            <a:r>
              <a:rPr b="1" lang="de-DE" sz="1600" spc="-1" strike="noStrike">
                <a:solidFill>
                  <a:srgbClr val="ffff00"/>
                </a:solidFill>
                <a:latin typeface="Garamond"/>
              </a:rPr>
              <a:t>C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rne Gore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M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E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30800" y="2673360"/>
            <a:ext cx="3511440" cy="10270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6400" y="3886200"/>
            <a:ext cx="6956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Nadgleda programiranje i ef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ktiv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 sprovo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đ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en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e Programa. Sastavljen je od predst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nika odre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đ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enih ministarst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a iz S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bije i Crne Gore. ZNO je takođe odgovoran i za izbor projekata koji će biti finansirani u okviru ovog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rogram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93720" y="3768840"/>
            <a:ext cx="7140600" cy="10270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4924440"/>
            <a:ext cx="6942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de-DE" sz="1600" spc="-1" strike="noStrike">
                <a:solidFill>
                  <a:srgbClr val="ffff66"/>
                </a:solidFill>
                <a:latin typeface="Garamond"/>
              </a:rPr>
              <a:t> 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Smešten u P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je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lju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Sr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j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sa pratećom kancelarijom u Bijelom Polju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Crna Gora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ZTS o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avlja svakodnevne aktivnosti vezan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za upravljanje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r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gramom, uklju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uju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ć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 i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odršku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vim potencij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im aplikantima.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ZTS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redstavlja gla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tačku kontakta za korisnike u 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rekograničnom program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Srbija – Cr</a:t>
            </a:r>
            <a:r>
              <a:rPr b="1" lang="de-DE" sz="1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a Gora.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93720" y="4863960"/>
            <a:ext cx="7155000" cy="1070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8080" y="4863960"/>
            <a:ext cx="12398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" y="4889880"/>
            <a:ext cx="10382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Zajednički tehnički sekretarijat</a:t>
            </a:r>
            <a:r>
              <a:rPr b="1" lang="en-GB" sz="1600" spc="-1" strike="noStrike">
                <a:solidFill>
                  <a:srgbClr val="ff3300"/>
                </a:solidFill>
                <a:latin typeface="Garamond"/>
              </a:rPr>
              <a:t> (</a:t>
            </a:r>
            <a:r>
              <a:rPr b="1" lang="sr-Latn-BA" sz="1600" spc="-1" strike="noStrike">
                <a:solidFill>
                  <a:srgbClr val="ff3300"/>
                </a:solidFill>
                <a:latin typeface="Garamond"/>
              </a:rPr>
              <a:t>Z</a:t>
            </a:r>
            <a:r>
              <a:rPr b="1" lang="en-GB" sz="1600" spc="-1" strike="noStrike">
                <a:solidFill>
                  <a:srgbClr val="ff3300"/>
                </a:solidFill>
                <a:latin typeface="Garamond"/>
              </a:rPr>
              <a:t>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3300"/>
                </a:solidFill>
                <a:latin typeface="Garamond"/>
              </a:rPr>
              <a:t>Pažnja</a:t>
            </a:r>
            <a:r>
              <a:rPr b="1" lang="en-GB" sz="3600" spc="-1" strike="noStrike">
                <a:solidFill>
                  <a:srgbClr val="ff3300"/>
                </a:solidFill>
                <a:latin typeface="Garamond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2040" y="1850760"/>
            <a:ext cx="84614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Predlozi projekata koji su poslati putem drugog sredstva 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npr. putem faxa ili mejlom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ili isporučeni na drugu adresu neće biti prihvaćeni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Predlozi projekata moraju biti dostavljeni u originalu i dve kopije, u posebnim povezima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Kompletan prijavni obrazac, budžet i matrica logičkog okvira moraju biti dostavljeni i u elektronskom formatu 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(CD-Rom)</a:t>
            </a:r>
            <a:r>
              <a:rPr b="1" lang="sr-Latn-BA" sz="1800" spc="-1" strike="noStrike">
                <a:solidFill>
                  <a:srgbClr val="ffffff"/>
                </a:solidFill>
                <a:latin typeface="Garamond"/>
              </a:rPr>
              <a:t> u odvojenom i jedinstvenom fajlu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npr. Prijavni formular ne sme biti odvojen u nekoliko različitih fajlova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Elektronski format mora sadržati potpuno iste informacije kako i priložena verzija na papiru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Kontrolna lista  (Deo V Aplikacionog formulara), Izjava od strane podnosioca (Deo VI Aplikacionog formulara) moraju biti spojeni odvojeno i priloženi u koverti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Garamond"/>
              </a:rPr>
              <a:t>Tamo gde podnosilac šalje više različitih predloga projekata, svaki od njih mora biti poslat odvojeno.</a:t>
            </a:r>
            <a:r>
              <a:rPr b="0" lang="pl-PL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84836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3300"/>
                </a:solidFill>
                <a:latin typeface="Garamond"/>
              </a:rPr>
              <a:t>Na koverti moraju biti ispisane</a:t>
            </a:r>
            <a:br>
              <a:rPr sz="3000"/>
            </a:br>
            <a:r>
              <a:rPr b="0" lang="pl-PL" sz="3000" spc="-1" strike="noStrike">
                <a:solidFill>
                  <a:srgbClr val="ff3300"/>
                </a:solidFill>
                <a:latin typeface="Garamond"/>
              </a:rPr>
              <a:t>informacije sledeće sadržine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57720"/>
            <a:ext cx="85932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Referentni broj poziva za dostavljanje projektnih predlo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Naziv poziva za dostavljanje projektnih predlog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  <a:ea typeface="Arial"/>
              </a:rPr>
              <a:t>roj  i naziv komponente (broj mere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da-DK" sz="1800" spc="-1" strike="noStrike">
                <a:solidFill>
                  <a:srgbClr val="ffffff"/>
                </a:solidFill>
                <a:latin typeface="Arial"/>
                <a:ea typeface="Arial"/>
              </a:rPr>
              <a:t>naziv mer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uno ime i adresa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odnosioc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ečenica "Not to be opened before the opening session" odnosno 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rpskom -  "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Ne otvarati pre po</a:t>
            </a: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četka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sastanka za otvaranje predloga </a:t>
            </a: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projekata” ili na crnogorskom – “Ne otvarati prije početka sastanka za </a:t>
            </a: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otvaranje prijedloga projekata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rajnji rok za dostavu aplikacija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 (2.2.3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ffff"/>
                </a:solidFill>
                <a:latin typeface="Garamond"/>
              </a:rPr>
              <a:t>Poziv će biti otvoren 90 d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0000"/>
                </a:solidFill>
                <a:latin typeface="Garamond"/>
              </a:rPr>
              <a:t>KRAJNJI ROK ZA DOSTAVU 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0000"/>
                </a:solidFill>
                <a:latin typeface="Garamond"/>
              </a:rPr>
              <a:t>23.09.2009.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ff0000"/>
                </a:solidFill>
                <a:latin typeface="Garamond"/>
              </a:rPr>
              <a:t>do 16 čas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stale informacij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(2.2.4.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9320" y="1898640"/>
            <a:ext cx="7926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Dodatna pitanja vezana za ovaj poziv mogu biti poslata putem mejla ili faksa najkasnije 21 dan pre krajnjeg roka za podnošenj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redloga projekata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 na adresu navedenu ispod, navodeći jasno referentni broj poziva za dostavljanje projektnih predlog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e-mail: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jts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@cbc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srb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-mn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ax: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   +38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dgovori će biti dati najkasnije 11 dana pre krajnjeg roka za podnošenj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predloga projeka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36760" y="3703680"/>
            <a:ext cx="467352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79320" y="2015640"/>
            <a:ext cx="7926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itanja koja mogu biti relevantna i drugim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odnosiocima</a:t>
            </a: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, zajedno sa odgovorima, biće objavljena na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6d1ec"/>
                </a:solidFill>
                <a:uFillTx/>
                <a:latin typeface="Garamond"/>
                <a:hlinkClick r:id="rId1"/>
              </a:rPr>
              <a:t>http://www.cbcsrb-mne.org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6d1ec"/>
                </a:solidFill>
                <a:uFillTx/>
                <a:latin typeface="Garamond"/>
                <a:hlinkClick r:id="rId2"/>
              </a:rPr>
              <a:t>http://www.evropa.gov.r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86d1ec"/>
                </a:solidFill>
                <a:uFillTx/>
                <a:latin typeface="Garamond"/>
                <a:hlinkClick r:id="rId3"/>
              </a:rPr>
              <a:t>http://www.</a:t>
            </a:r>
            <a:r>
              <a:rPr b="0" lang="sr-Latn-BA" sz="2400" spc="-1" strike="noStrike" u="sng">
                <a:solidFill>
                  <a:srgbClr val="86d1ec"/>
                </a:solidFill>
                <a:uFillTx/>
                <a:latin typeface="Garamond"/>
                <a:hlinkClick r:id="rId4"/>
              </a:rPr>
              <a:t>gov.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6d1ec"/>
                </a:solidFill>
                <a:uFillTx/>
                <a:latin typeface="Garamond"/>
                <a:hlinkClick r:id="rId5"/>
              </a:rPr>
              <a:t>http://</a:t>
            </a:r>
            <a:r>
              <a:rPr b="0" lang="en-GB" sz="2400" spc="-1" strike="noStrike" u="sng">
                <a:solidFill>
                  <a:srgbClr val="86d1ec"/>
                </a:solidFill>
                <a:uFillTx/>
                <a:latin typeface="Garamond"/>
                <a:hlinkClick r:id="rId6"/>
              </a:rPr>
              <a:t>ec.europa.eu/europeaid/work/procedures/index_en.ht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Arial"/>
              </a:rPr>
              <a:t>Ostale informacij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2.2.4.</a:t>
            </a:r>
            <a:r>
              <a:rPr b="1" lang="sr-Latn-BA" sz="3600" spc="-1" strike="noStrike">
                <a:solidFill>
                  <a:srgbClr val="ffff00"/>
                </a:solidFill>
                <a:latin typeface="Arial"/>
              </a:rPr>
              <a:t> Uputstva za aplikant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cjenjivanje i odabir aplik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52440" y="2965320"/>
            <a:ext cx="3275280" cy="3613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9840" y="1871640"/>
            <a:ext cx="3340080" cy="102564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61" y="0"/>
                </a:lnTo>
                <a:lnTo>
                  <a:pt x="21600" y="10800"/>
                </a:lnTo>
                <a:lnTo>
                  <a:pt x="211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KORAK</a:t>
            </a:r>
            <a:r>
              <a:rPr b="1" lang="en-GB" sz="1600" spc="-1" strike="noStrike">
                <a:solidFill>
                  <a:srgbClr val="000080"/>
                </a:solidFill>
                <a:latin typeface="Garamond"/>
              </a:rPr>
              <a:t> 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  <a:ea typeface="Times New Roman"/>
              </a:rPr>
              <a:t>OTVARANJE I ADMINISTRATIVNA PROV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63600" y="3094200"/>
            <a:ext cx="32464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lvl="1" marL="180720" indent="-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0720" indent="-179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Times New Roman"/>
              </a:rPr>
              <a:t> </a:t>
            </a: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Times New Roman"/>
              </a:rPr>
              <a:t>Krajnji rok za dostavljanje</a:t>
            </a:r>
            <a:r>
              <a:rPr b="1" lang="de-DE" sz="2000" spc="-1" strike="noStrike">
                <a:solidFill>
                  <a:srgbClr val="ff3300"/>
                </a:solidFill>
                <a:latin typeface="Garamond"/>
                <a:ea typeface="SimSu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0720" indent="-179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80720" indent="-179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SimSun"/>
              </a:rPr>
              <a:t> </a:t>
            </a:r>
            <a:r>
              <a:rPr b="1" lang="hr-HR" sz="2000" spc="-1" strike="noStrike">
                <a:solidFill>
                  <a:srgbClr val="ff0000"/>
                </a:solidFill>
                <a:latin typeface="Garamond"/>
              </a:rPr>
              <a:t>Prijavni obrazac</a:t>
            </a:r>
            <a:r>
              <a:rPr b="1" lang="en-GB" sz="2000" spc="-1" strike="noStrike">
                <a:solidFill>
                  <a:srgbClr val="ff0000"/>
                </a:solidFill>
                <a:latin typeface="Garamond"/>
              </a:rPr>
              <a:t> je zadovoljio sve kriterijume pomenute u</a:t>
            </a:r>
            <a:r>
              <a:rPr b="1" lang="hr-HR" sz="2000" spc="-1" strike="noStrike">
                <a:solidFill>
                  <a:srgbClr val="ff0000"/>
                </a:solidFill>
                <a:latin typeface="Garamond"/>
              </a:rPr>
              <a:t> tačkama 1-5 </a:t>
            </a:r>
            <a:r>
              <a:rPr b="1" lang="en-GB" sz="2000" spc="-1" strike="noStrike">
                <a:solidFill>
                  <a:srgbClr val="ff0000"/>
                </a:solidFill>
                <a:latin typeface="Garamond"/>
              </a:rPr>
              <a:t>Kontrolne liste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sekcija V</a:t>
            </a:r>
            <a:r>
              <a:rPr b="1" lang="de-DE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prijavnog obrasc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00480" y="3006720"/>
            <a:ext cx="3173400" cy="35892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  <a:ea typeface="Arial"/>
              </a:rPr>
              <a:t>Relevantnost projektnih aktivnosti</a:t>
            </a: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Efektivnost i izvodljivost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Garamond"/>
                <a:ea typeface="Arial"/>
              </a:rPr>
              <a:t>Održivost projekta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1882800"/>
            <a:ext cx="3328920" cy="1071360"/>
          </a:xfrm>
          <a:custGeom>
            <a:avLst/>
            <a:gdLst>
              <a:gd name="textAreaLeft" fmla="*/ 0 w 3328920"/>
              <a:gd name="textAreaRight" fmla="*/ 3329280 w 332892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01" y="0"/>
                </a:lnTo>
                <a:lnTo>
                  <a:pt x="21600" y="10800"/>
                </a:lnTo>
                <a:lnTo>
                  <a:pt x="21001" y="21600"/>
                </a:lnTo>
                <a:lnTo>
                  <a:pt x="0" y="21600"/>
                </a:lnTo>
                <a:lnTo>
                  <a:pt x="599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KORAK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Garamond"/>
                <a:ea typeface="Arial"/>
              </a:rPr>
              <a:t>OCENJIVANJE REZIM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pl-PL" sz="1600" spc="-1" strike="noStrike">
                <a:solidFill>
                  <a:srgbClr val="ff3300"/>
                </a:solidFill>
                <a:latin typeface="Garamond"/>
                <a:ea typeface="Arial"/>
              </a:rPr>
              <a:t>PROJEKTA 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Ocjenjivanje i odabir aplik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38400" y="2963880"/>
            <a:ext cx="3174840" cy="35892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3300"/>
                </a:solidFill>
                <a:latin typeface="Garamond"/>
                <a:ea typeface="Arial"/>
              </a:rPr>
              <a:t>Kriterijumi odabira</a:t>
            </a:r>
            <a:r>
              <a:rPr b="1" lang="en-GB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  <a:ea typeface="Arial"/>
              </a:rPr>
              <a:t>ima nameru da pomogne u proceni finansijskih i operativnih kapaciteta podnosil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3300"/>
                </a:solidFill>
                <a:latin typeface="Garamond"/>
                <a:ea typeface="Arial"/>
              </a:rPr>
              <a:t>Kriterijumi dodele</a:t>
            </a:r>
            <a:r>
              <a:rPr b="1" lang="en-GB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  <a:ea typeface="Arial"/>
              </a:rPr>
              <a:t>dozvoljavaju da se proceni kvalitet dostavljenog predloga u odnosu na već određene ciljeve i prioritete, te da se bespovratna pomoć dodeli za projekat koji maksimalizuje ukupnu efektivnost poziva za dostavljanje projektnih prijedlog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11400" y="1839960"/>
            <a:ext cx="3298680" cy="1071360"/>
          </a:xfrm>
          <a:custGeom>
            <a:avLst/>
            <a:gdLst>
              <a:gd name="textAreaLeft" fmla="*/ 0 w 3298680"/>
              <a:gd name="textAreaRight" fmla="*/ 3299040 w 329868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01" y="0"/>
                </a:lnTo>
                <a:lnTo>
                  <a:pt x="21600" y="10800"/>
                </a:lnTo>
                <a:lnTo>
                  <a:pt x="21001" y="21600"/>
                </a:lnTo>
                <a:lnTo>
                  <a:pt x="0" y="21600"/>
                </a:lnTo>
                <a:lnTo>
                  <a:pt x="599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KORAK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r>
              <a:rPr b="1" lang="sr-Latn-BA" sz="1600" spc="-1" strike="noStrike">
                <a:solidFill>
                  <a:srgbClr val="000080"/>
                </a:solidFill>
                <a:latin typeface="Garamond"/>
              </a:rPr>
              <a:t>3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Garamond"/>
              </a:rPr>
              <a:t> </a:t>
            </a:r>
            <a:r>
              <a:rPr b="1" lang="en-GB" sz="1500" spc="-1" strike="noStrike">
                <a:solidFill>
                  <a:srgbClr val="ff3300"/>
                </a:solidFill>
                <a:latin typeface="Garamond"/>
                <a:ea typeface="Arial"/>
              </a:rPr>
              <a:t>OCENJIVANJE KOMPLETN</a:t>
            </a:r>
            <a:r>
              <a:rPr b="1" lang="hr-HR" sz="1500" spc="-1" strike="noStrike">
                <a:solidFill>
                  <a:srgbClr val="ff3300"/>
                </a:solidFill>
                <a:latin typeface="Garamond"/>
                <a:ea typeface="Arial"/>
              </a:rPr>
              <a:t>O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1500" spc="-1" strike="noStrike">
                <a:solidFill>
                  <a:srgbClr val="ff3300"/>
                </a:solidFill>
                <a:latin typeface="Garamond"/>
                <a:ea typeface="Arial"/>
              </a:rPr>
              <a:t>PREDLOGA PROJEKTA</a:t>
            </a:r>
            <a:r>
              <a:rPr b="1" lang="en-GB" sz="15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8120" y="2981160"/>
            <a:ext cx="2781360" cy="35989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02280" y="1854360"/>
            <a:ext cx="2879640" cy="108720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087200"/>
              <a:gd name="textAreaBottom" fmla="*/ 1087560 h 108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01" y="0"/>
                </a:lnTo>
                <a:lnTo>
                  <a:pt x="21600" y="10800"/>
                </a:lnTo>
                <a:lnTo>
                  <a:pt x="21001" y="21600"/>
                </a:lnTo>
                <a:lnTo>
                  <a:pt x="0" y="21600"/>
                </a:lnTo>
                <a:lnTo>
                  <a:pt x="599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6d1e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400" spc="-1" strike="noStrike">
                <a:solidFill>
                  <a:srgbClr val="000080"/>
                </a:solidFill>
                <a:latin typeface="Garamond"/>
              </a:rPr>
              <a:t>KORAK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Garamond"/>
                <a:ea typeface="Arial"/>
              </a:rPr>
              <a:t>VERIFIKACIJA PRIHVATLJIVOSTI APLIKANTA I PARTNE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8200" y="3078000"/>
            <a:ext cx="25765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lvl="1" marL="173160" indent="-1717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sr-Latn-BA" sz="1800" spc="-1" strike="noStrike">
                <a:solidFill>
                  <a:srgbClr val="ff3300"/>
                </a:solidFill>
                <a:latin typeface="Garamond"/>
              </a:rPr>
              <a:t>Prateća dok</a:t>
            </a:r>
            <a:r>
              <a:rPr b="1" lang="de-DE" sz="1800" spc="-1" strike="noStrike">
                <a:solidFill>
                  <a:srgbClr val="ff3300"/>
                </a:solidFill>
                <a:latin typeface="Garamond"/>
              </a:rPr>
              <a:t>u</a:t>
            </a:r>
            <a:r>
              <a:rPr b="1" lang="sr-Latn-BA" sz="1800" spc="-1" strike="noStrike">
                <a:solidFill>
                  <a:srgbClr val="ff3300"/>
                </a:solidFill>
                <a:latin typeface="Garamond"/>
              </a:rPr>
              <a:t>mentacija</a:t>
            </a:r>
            <a:r>
              <a:rPr b="1" lang="en-GB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rovera prihvatljivosti, bazirana na dokumentima po zahtevu Ugovornog tela (vidi sekciju 2.4 uputstva) će biti izvršena </a:t>
            </a:r>
            <a:r>
              <a:rPr b="1" lang="hr-HR" sz="1600" spc="-1" strike="noStrike" u="sng">
                <a:solidFill>
                  <a:srgbClr val="ffffff"/>
                </a:solidFill>
                <a:uFillTx/>
                <a:latin typeface="Garamond"/>
              </a:rPr>
              <a:t>samo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 za one predloge koji su bili preliminarno odabrani na osnovu bodova i dostupnih finansijskih sredsta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940360" y="2637000"/>
            <a:ext cx="2684520" cy="3074760"/>
          </a:xfrm>
          <a:prstGeom prst="cloudCallout">
            <a:avLst>
              <a:gd name="adj1" fmla="val -61708"/>
              <a:gd name="adj2" fmla="val -3689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3300"/>
                </a:solidFill>
                <a:latin typeface="Garamond"/>
                <a:ea typeface="Arial"/>
              </a:rPr>
              <a:t>U koliko je ukupan prosečan zbir manji od 20 bodova za sekciju 2 - relevantnost, predlog neće biti prihvać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73640" y="620640"/>
            <a:ext cx="2359080" cy="1965240"/>
          </a:xfrm>
          <a:prstGeom prst="cloudCallout">
            <a:avLst>
              <a:gd name="adj1" fmla="val -65143"/>
              <a:gd name="adj2" fmla="val 83523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58680" indent="-5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3300"/>
                </a:solidFill>
                <a:latin typeface="Garamond"/>
                <a:ea typeface="Arial"/>
              </a:rPr>
              <a:t>Ukoliko je za sekciju 1 ukupan prosečan zbir bodova manji od 12, predlog neće biti prihvaćen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680" indent="-586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Tabela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za ocenjivanje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63640" y="1268280"/>
            <a:ext cx="3695760" cy="5232600"/>
            <a:chOff x="1763640" y="1268280"/>
            <a:chExt cx="3695760" cy="5232600"/>
          </a:xfrm>
        </p:grpSpPr>
        <p:sp>
          <p:nvSpPr>
            <p:cNvPr id="423" name=""/>
            <p:cNvSpPr/>
            <p:nvPr/>
          </p:nvSpPr>
          <p:spPr>
            <a:xfrm>
              <a:off x="4211640" y="3429000"/>
              <a:ext cx="12477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8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63640" y="3429000"/>
              <a:ext cx="24480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BA" sz="2200" spc="-1" strike="noStrike">
                  <a:solidFill>
                    <a:srgbClr val="ff3300"/>
                  </a:solidFill>
                  <a:latin typeface="Garamond"/>
                </a:rPr>
                <a:t>Kriterijumi dodele</a:t>
              </a: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11640" y="1968480"/>
              <a:ext cx="12477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2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63640" y="1968480"/>
              <a:ext cx="24480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BA" sz="2200" spc="-1" strike="noStrike">
                  <a:solidFill>
                    <a:srgbClr val="ff3300"/>
                  </a:solidFill>
                  <a:latin typeface="Garamond"/>
                </a:rPr>
                <a:t>Kriterijumi odabira</a:t>
              </a: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63640" y="5740560"/>
              <a:ext cx="24480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BA" sz="2200" spc="-1" strike="noStrike" u="sng">
                  <a:solidFill>
                    <a:srgbClr val="86d1ec"/>
                  </a:solidFill>
                  <a:uFillTx/>
                  <a:latin typeface="Garamond"/>
                  <a:hlinkClick r:id="rId1"/>
                </a:rPr>
                <a:t>Maksimalan zbir bodova</a:t>
              </a:r>
              <a:r>
                <a:rPr b="0" lang="it-IT" sz="2200" spc="-1" strike="noStrike" u="sng">
                  <a:solidFill>
                    <a:srgbClr val="86d1ec"/>
                  </a:solidFill>
                  <a:uFillTx/>
                  <a:latin typeface="Garamond"/>
                  <a:hlinkClick r:id="rId2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63640" y="5040360"/>
              <a:ext cx="2448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Garamond"/>
                </a:rPr>
                <a:t>5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Budžet i efektivnost troškov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3640" y="4645080"/>
              <a:ext cx="24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Garamond"/>
                </a:rPr>
                <a:t>4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Održiv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63640" y="4249800"/>
              <a:ext cx="24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aramond"/>
                </a:rPr>
                <a:t>3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Metodologi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63640" y="3854520"/>
              <a:ext cx="2448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aramond"/>
                </a:rPr>
                <a:t>2. Rele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vant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63640" y="2728800"/>
              <a:ext cx="2448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Garamond"/>
                </a:rPr>
                <a:t>1. </a:t>
              </a:r>
              <a:r>
                <a:rPr b="0" lang="sr-Latn-BA" sz="2000" spc="-1" strike="noStrike">
                  <a:solidFill>
                    <a:srgbClr val="ffffff"/>
                  </a:solidFill>
                  <a:latin typeface="Garamond"/>
                </a:rPr>
                <a:t>Finansijski i operativni kapaciteti</a:t>
              </a: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63640" y="1268280"/>
              <a:ext cx="2448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Garamond"/>
                </a:rPr>
                <a:t>Se</a:t>
              </a:r>
              <a:r>
                <a:rPr b="1" lang="sr-Latn-BA" sz="2000" spc="-1" strike="noStrike">
                  <a:solidFill>
                    <a:srgbClr val="ff3300"/>
                  </a:solidFill>
                  <a:latin typeface="Garamond"/>
                </a:rPr>
                <a:t>kcija</a:t>
              </a:r>
              <a:r>
                <a:rPr b="1" lang="it-IT" sz="20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11640" y="5740560"/>
              <a:ext cx="12477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3300"/>
                  </a:solidFill>
                  <a:latin typeface="Garamond"/>
                </a:rPr>
                <a:t>100</a:t>
              </a:r>
              <a:r>
                <a:rPr b="1" lang="it-IT" sz="22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11640" y="5040360"/>
              <a:ext cx="12477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r>
                <a:rPr b="0" lang="hr-HR" sz="20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11640" y="4645080"/>
              <a:ext cx="12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11640" y="4249800"/>
              <a:ext cx="12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3854520"/>
              <a:ext cx="12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ff"/>
                  </a:solidFill>
                  <a:latin typeface="Garamond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11640" y="2728800"/>
              <a:ext cx="12477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Garamond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11640" y="1268280"/>
              <a:ext cx="124776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Garamond"/>
                </a:rPr>
                <a:t>Max. Score</a:t>
              </a:r>
              <a:r>
                <a:rPr b="1" lang="it-IT" sz="2000" spc="-1" strike="noStrike">
                  <a:solidFill>
                    <a:srgbClr val="ff33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3640" y="196848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3640" y="342900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63640" y="424980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63640" y="464508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63640" y="504036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63640" y="574056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11640" y="1268280"/>
              <a:ext cx="0" cy="5232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63640" y="272880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63640" y="3854520"/>
              <a:ext cx="36957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63640" y="1268280"/>
              <a:ext cx="3695760" cy="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63640" y="1268280"/>
              <a:ext cx="0" cy="523260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59400" y="1268280"/>
              <a:ext cx="0" cy="523260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3640" y="6500880"/>
              <a:ext cx="3695760" cy="0"/>
            </a:xfrm>
            <a:prstGeom prst="line">
              <a:avLst/>
            </a:prstGeom>
            <a:ln cap="sq"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638280" y="1009800"/>
            <a:ext cx="7856280" cy="5043240"/>
            <a:chOff x="638280" y="1009800"/>
            <a:chExt cx="7856280" cy="5043240"/>
          </a:xfrm>
        </p:grpSpPr>
        <p:sp>
          <p:nvSpPr>
            <p:cNvPr id="455" name=""/>
            <p:cNvSpPr/>
            <p:nvPr/>
          </p:nvSpPr>
          <p:spPr>
            <a:xfrm>
              <a:off x="7770960" y="3228840"/>
              <a:ext cx="723600" cy="14115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35680" y="3228840"/>
              <a:ext cx="935280" cy="14115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8280" y="3228840"/>
              <a:ext cx="6197400" cy="14115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1.3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Da li podnosilac i partneri, ukoliko podnosilac ima partnere, imaju zadovoljavajuće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</a:rPr>
                <a:t>upravljačke kapacitete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? (uključujući osoblje, opremu i sposobnost da upravljaju projektnim budžetom)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0960" y="4640400"/>
              <a:ext cx="723600" cy="14126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4640400"/>
              <a:ext cx="935280" cy="14126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8280" y="4640400"/>
              <a:ext cx="6197400" cy="14126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4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podnosilac ima stabilan i dovoljan izvor izvor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finansiranja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</a:t>
              </a:r>
              <a:r>
                <a:rPr b="0" lang="hr-HR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br>
                <a:rPr sz="2000"/>
              </a:b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70960" y="2417760"/>
              <a:ext cx="723600" cy="81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35680" y="2417760"/>
              <a:ext cx="935280" cy="81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8280" y="2417760"/>
              <a:ext cx="6197400" cy="81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marL="288000" indent="-28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2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 su podnosilac i partneri, ukoliko ih ima, dovoljno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stručno obrazovan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 (ponajpre znanje o materiji kojom će se baviti.)</a:t>
              </a:r>
              <a:r>
                <a:rPr b="0" lang="hr-HR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70960" y="1517760"/>
              <a:ext cx="723600" cy="90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35680" y="1517760"/>
              <a:ext cx="935280" cy="90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3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8280" y="1517760"/>
              <a:ext cx="6197400" cy="90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1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podnosilac i partneri, ukoliko ih ima, imaju dovoljno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skustvo u upravljanju projektima?</a:t>
              </a:r>
              <a:r>
                <a:rPr b="0" lang="hr-HR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0960" y="1009800"/>
              <a:ext cx="723600" cy="507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35680" y="1009800"/>
              <a:ext cx="935280" cy="507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8280" y="1009800"/>
              <a:ext cx="6197400" cy="507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lvl="1" marL="7430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1. Finansijski i operativni kapaciteti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35680" y="1009800"/>
              <a:ext cx="0" cy="50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0960" y="1009800"/>
              <a:ext cx="0" cy="50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8280" y="1009800"/>
              <a:ext cx="785628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8280" y="151776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8280" y="241776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8280" y="1009800"/>
              <a:ext cx="0" cy="504324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94560" y="1009800"/>
              <a:ext cx="0" cy="504324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8280" y="322884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280" y="6053040"/>
              <a:ext cx="785628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8280" y="4640400"/>
              <a:ext cx="78562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Tabela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za ocjenjivanje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84360" y="1052640"/>
            <a:ext cx="8069040" cy="5329080"/>
            <a:chOff x="684360" y="1052640"/>
            <a:chExt cx="8069040" cy="5329080"/>
          </a:xfrm>
        </p:grpSpPr>
        <p:sp>
          <p:nvSpPr>
            <p:cNvPr id="482" name=""/>
            <p:cNvSpPr/>
            <p:nvPr/>
          </p:nvSpPr>
          <p:spPr>
            <a:xfrm>
              <a:off x="7806960" y="3817800"/>
              <a:ext cx="946080" cy="9644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82200" y="3817800"/>
              <a:ext cx="824760" cy="9644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.1.6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.1.7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360" y="3817800"/>
              <a:ext cx="6297840" cy="9644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3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Koliko su uključene strane jasno definisane i strateški izabrane (krajnji korisnici, ciljne grupe)? Da li su njihove potrebe jasno definisane i da li je  jasno da se predlog na njih adekvatno odnosi? Da li predlog upućuje na potrebe ciljnih grupa sa obe strane granice?</a:t>
              </a: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06960" y="4782600"/>
              <a:ext cx="946080" cy="11480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2200" y="4782600"/>
              <a:ext cx="824760" cy="11480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I.1.9</a:t>
              </a: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	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4360" y="4782600"/>
              <a:ext cx="6297840" cy="11480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 marL="82080" indent="-82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4</a:t>
              </a:r>
              <a:r>
                <a:rPr b="0" lang="en-US" sz="17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Da li predlog uključuje pravu prekograničnu saradnju (barem jedno od sledećeg: zajednički razvoj, zajedničko osoblje, zajedničko sprovođenje, zajedničko finansiranje)? Dati više bodova ukoliko ima više od jednog oblika saradnje.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6960" y="5931000"/>
              <a:ext cx="946080" cy="4503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82200" y="5931000"/>
              <a:ext cx="824760" cy="4503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I.1.6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4360" y="5931000"/>
              <a:ext cx="6297840" cy="4503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marL="305280" indent="-305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5.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Da li predložene aktivnosti donose jasnu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</a:rPr>
                <a:t>prekograničnu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 korist</a:t>
              </a:r>
              <a:r>
                <a:rPr b="0" lang="it-IT" sz="1700" spc="-1" strike="noStrike">
                  <a:solidFill>
                    <a:srgbClr val="000080"/>
                  </a:solidFill>
                  <a:latin typeface="Garamond"/>
                </a:rPr>
                <a:t>?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06960" y="3082680"/>
              <a:ext cx="946080" cy="735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82200" y="3082680"/>
              <a:ext cx="824760" cy="735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I.1.6</a:t>
              </a: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	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4360" y="3082680"/>
              <a:ext cx="6297840" cy="735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marL="301680" indent="-3016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Garamond"/>
                </a:rPr>
                <a:t>2.2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Koliko je predlog relevantan u odnosu na posebne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</a:rPr>
                <a:t>potrebe i zahteve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</a:rPr>
                <a:t>ciljne zemlje/zemalja ili region(a)? (uključujući sinergiju sa drugim inicijativama EK i izbegavanje ponavljanja).</a:t>
              </a:r>
              <a:r>
                <a:rPr b="0" lang="hr-HR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06960" y="1551240"/>
              <a:ext cx="946080" cy="153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82200" y="1551240"/>
              <a:ext cx="824760" cy="153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5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6</a:t>
              </a: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4360" y="1551240"/>
              <a:ext cx="6297840" cy="15310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 marL="332640" indent="-3326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2.1 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Koliko je predlog relevantan u odnosu na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ciljeve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, i jedan ili više </a:t>
              </a:r>
              <a:r>
                <a:rPr b="1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prioriteta</a:t>
              </a:r>
              <a:r>
                <a:rPr b="0" lang="hr-HR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poziva za dostavljanje predloga?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32640" indent="-3326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     </a:t>
              </a: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Napomena: 5 bodova (odlično) će se dodijeliti isključivo ako se predlog konkretno poziva na </a:t>
              </a: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Prioritet I</a:t>
              </a: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r>
                <a:rPr b="0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Napomena: 5 bodova (odlično) će se dodijeliti isključivo ako predlog sadrži specifične elemente dodatnih vrijednosti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06960" y="1052640"/>
              <a:ext cx="94608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</a:rPr>
                <a:t>2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82200" y="1052640"/>
              <a:ext cx="82476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360" y="1052640"/>
              <a:ext cx="629784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2. Relevantnost</a:t>
              </a:r>
              <a:r>
                <a:rPr b="0" lang="en-US" sz="17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4360" y="155124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82200" y="1052640"/>
              <a:ext cx="0" cy="53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06960" y="1052640"/>
              <a:ext cx="0" cy="53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4360" y="308268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4360" y="381780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4360" y="593100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4360" y="4782600"/>
              <a:ext cx="80690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4360" y="1052640"/>
              <a:ext cx="80690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4360" y="1052640"/>
              <a:ext cx="0" cy="5329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753400" y="1052640"/>
              <a:ext cx="0" cy="5329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4360" y="6381720"/>
              <a:ext cx="80690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Garamond"/>
              </a:rPr>
              <a:t>Ugov</a:t>
            </a:r>
            <a:r>
              <a:rPr b="1" lang="sr-Latn-BA" sz="3600" spc="-1" strike="noStrike">
                <a:solidFill>
                  <a:srgbClr val="ffff66"/>
                </a:solidFill>
                <a:latin typeface="Garamond"/>
              </a:rPr>
              <a:t>orna t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KMA1D1FEAF"/>
          <p:cNvSpPr/>
          <p:nvPr/>
        </p:nvSpPr>
        <p:spPr>
          <a:xfrm>
            <a:off x="6027840" y="2076480"/>
            <a:ext cx="3116160" cy="20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43200" bIns="432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D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Delegacija Evropske komisije u Republici Srbiji, odgovorna za sva ugovaranja i plaćanja, uključujući i potpisivanje ugov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KMA1D1FEAF"/>
          <p:cNvSpPr/>
          <p:nvPr/>
        </p:nvSpPr>
        <p:spPr>
          <a:xfrm>
            <a:off x="6097680" y="4456080"/>
            <a:ext cx="3046320" cy="2185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43200" bIns="432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Garamond"/>
              </a:rPr>
              <a:t>D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Delegacija Evropske komisije u Crnoj Gori, odgovorna za sva ugovaranja i plaćanja, uključujući i potpisivanje ugov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2421000"/>
            <a:ext cx="5786280" cy="3917880"/>
          </a:xfrm>
          <a:custGeom>
            <a:avLst/>
            <a:gdLst/>
            <a:ahLst/>
            <a:rect l="l" t="t" r="r" b="b"/>
            <a:pathLst>
              <a:path w="3264" h="2663">
                <a:moveTo>
                  <a:pt x="0" y="2047"/>
                </a:moveTo>
                <a:lnTo>
                  <a:pt x="0" y="630"/>
                </a:lnTo>
                <a:lnTo>
                  <a:pt x="1632" y="630"/>
                </a:lnTo>
                <a:cubicBezTo>
                  <a:pt x="1922" y="380"/>
                  <a:pt x="2458" y="27"/>
                  <a:pt x="2840" y="106"/>
                </a:cubicBezTo>
                <a:lnTo>
                  <a:pt x="2840" y="0"/>
                </a:lnTo>
                <a:lnTo>
                  <a:pt x="3264" y="338"/>
                </a:lnTo>
                <a:lnTo>
                  <a:pt x="2838" y="706"/>
                </a:lnTo>
                <a:lnTo>
                  <a:pt x="2838" y="584"/>
                </a:lnTo>
                <a:cubicBezTo>
                  <a:pt x="2259" y="578"/>
                  <a:pt x="1889" y="990"/>
                  <a:pt x="1632" y="1088"/>
                </a:cubicBezTo>
                <a:lnTo>
                  <a:pt x="1626" y="1583"/>
                </a:lnTo>
                <a:cubicBezTo>
                  <a:pt x="1890" y="1724"/>
                  <a:pt x="2409" y="2136"/>
                  <a:pt x="2841" y="2099"/>
                </a:cubicBezTo>
                <a:lnTo>
                  <a:pt x="2841" y="1997"/>
                </a:lnTo>
                <a:lnTo>
                  <a:pt x="3264" y="2297"/>
                </a:lnTo>
                <a:lnTo>
                  <a:pt x="2841" y="2663"/>
                </a:lnTo>
                <a:lnTo>
                  <a:pt x="2838" y="2558"/>
                </a:lnTo>
                <a:cubicBezTo>
                  <a:pt x="2682" y="2631"/>
                  <a:pt x="2274" y="2552"/>
                  <a:pt x="1625" y="2052"/>
                </a:cubicBezTo>
                <a:cubicBezTo>
                  <a:pt x="836" y="2052"/>
                  <a:pt x="0" y="2047"/>
                  <a:pt x="0" y="2047"/>
                </a:cubicBezTo>
                <a:close/>
              </a:path>
            </a:pathLst>
          </a:custGeom>
          <a:solidFill>
            <a:srgbClr val="3366ff"/>
          </a:solidFill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KMA1D1FEAF"/>
          <p:cNvSpPr/>
          <p:nvPr/>
        </p:nvSpPr>
        <p:spPr>
          <a:xfrm>
            <a:off x="395280" y="3357720"/>
            <a:ext cx="2378160" cy="2011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3200" bIns="43200" anchor="ctr">
            <a:normAutofit/>
          </a:bodyPr>
          <a:p>
            <a:pPr marL="130320" indent="-130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66"/>
                </a:solidFill>
                <a:latin typeface="Garamond"/>
              </a:rPr>
              <a:t>Ugovorna t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2781360"/>
            <a:ext cx="1225440" cy="39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r-Latn-BA" sz="2000" spc="-1" strike="noStrike">
                <a:solidFill>
                  <a:srgbClr val="ffff00"/>
                </a:solidFill>
                <a:latin typeface="Garamond"/>
              </a:rPr>
              <a:t>Srb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60880" y="5576760"/>
            <a:ext cx="1500120" cy="39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sr-Latn-BA" sz="2000" spc="-1" strike="noStrike">
                <a:solidFill>
                  <a:srgbClr val="ffff66"/>
                </a:solidFill>
                <a:latin typeface="Garamond"/>
              </a:rPr>
              <a:t>Crna G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684360" y="1052640"/>
            <a:ext cx="7704000" cy="5113080"/>
            <a:chOff x="684360" y="1052640"/>
            <a:chExt cx="7704000" cy="5113080"/>
          </a:xfrm>
        </p:grpSpPr>
        <p:sp>
          <p:nvSpPr>
            <p:cNvPr id="512" name=""/>
            <p:cNvSpPr/>
            <p:nvPr/>
          </p:nvSpPr>
          <p:spPr>
            <a:xfrm>
              <a:off x="7362720" y="1052640"/>
              <a:ext cx="1025280" cy="54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07400" y="1052640"/>
              <a:ext cx="1255320" cy="54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360" y="1052640"/>
              <a:ext cx="5423040" cy="5400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3. Metodologija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62720" y="3540960"/>
              <a:ext cx="1025280" cy="9777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07400" y="3540960"/>
              <a:ext cx="1255320" cy="9777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7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4360" y="3540960"/>
              <a:ext cx="5423040" cy="9777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3.3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Da li je nivo uključenosti i učešća partnera i važnih činilaca u projektu zadovoljavajući?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62720" y="4518720"/>
              <a:ext cx="1025280" cy="501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7400" y="4518720"/>
              <a:ext cx="1255320" cy="501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4360" y="4518720"/>
              <a:ext cx="5423040" cy="501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1000"/>
            </a:bodyPr>
            <a:p>
              <a:pPr marL="79560" indent="-7956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3.4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Da li je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 plan projektnih aktivnost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 jasan i izvodljiv?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62720" y="5020200"/>
              <a:ext cx="1025280" cy="11451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07400" y="5020200"/>
              <a:ext cx="1255320" cy="11451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8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nnex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C1&amp;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4360" y="5020200"/>
              <a:ext cx="5423040" cy="11451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3.5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Da li predloženi plan sadrži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objektivno proverljive indikatore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Times New Roman"/>
                </a:rPr>
                <a:t> rezultata projekta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62720" y="2670840"/>
              <a:ext cx="1025280" cy="870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07400" y="2670840"/>
              <a:ext cx="1255320" cy="870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7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4360" y="2670840"/>
              <a:ext cx="5423040" cy="8701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3.2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Koliko je ukupni dizajn projekta koherentan? </a:t>
              </a:r>
              <a:br>
                <a:rPr sz="1800"/>
              </a:b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(posebno, da li odražava analizu problema, uzima u obzir spoljne faktore i predviđa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evaluaciju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62720" y="1592640"/>
              <a:ext cx="1025280" cy="10778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07400" y="1592640"/>
              <a:ext cx="1255320" cy="10778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7 &amp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4360" y="1592640"/>
              <a:ext cx="5423040" cy="10778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3.1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su predložene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ktivnost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prikladne, praktične i konzistentne sa ciljevima i očekivanim rezultatima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?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07400" y="105264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62720" y="105264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4360" y="354096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4360" y="502020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4360" y="451872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4360" y="159264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4360" y="2670840"/>
              <a:ext cx="77040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4360" y="1052640"/>
              <a:ext cx="77040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4360" y="105264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88360" y="105264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4360" y="6165720"/>
              <a:ext cx="77040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900000" y="836640"/>
            <a:ext cx="7343640" cy="5472000"/>
            <a:chOff x="900000" y="836640"/>
            <a:chExt cx="7343640" cy="5472000"/>
          </a:xfrm>
        </p:grpSpPr>
        <p:sp>
          <p:nvSpPr>
            <p:cNvPr id="542" name=""/>
            <p:cNvSpPr/>
            <p:nvPr/>
          </p:nvSpPr>
          <p:spPr>
            <a:xfrm>
              <a:off x="7126560" y="836640"/>
              <a:ext cx="111708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18080" y="836640"/>
              <a:ext cx="70812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00000" y="836640"/>
              <a:ext cx="5518080" cy="4986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4. Održivost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26560" y="1933560"/>
              <a:ext cx="1117080" cy="93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18080" y="1933560"/>
              <a:ext cx="708120" cy="93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00000" y="1933560"/>
              <a:ext cx="5518080" cy="93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 marL="80280" indent="-802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4.2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je verovatno da će predlog imati efekat multipliciranja?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(uključujući ponavljanje i širenje rezultata akcije i širenja informacija.)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6560" y="2863800"/>
              <a:ext cx="1117080" cy="3444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18080" y="2863800"/>
              <a:ext cx="708120" cy="3444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.1.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00000" y="2863800"/>
              <a:ext cx="5518080" cy="344448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</a:rPr>
                <a:t>4.3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</a:rPr>
                <a:t>Da li su očekivani rezultati predložene akcije održivi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80"/>
                  </a:solidFill>
                  <a:latin typeface="Garamond"/>
                </a:rPr>
                <a:t>- 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finansijski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na koji će način aktivnosti biti finansirane nakon što se finansiranje završi?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- institutionalno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da li će se uspostaviti strukture koje će nastaviti aktivnosti na kraju projekta? Da li će postojati lokalno “vlasništvo”nad rezultatima projekta?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- na nivou donošenja odluka (ukoliko je primjenjivo)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kakav će biti strukturni uticaj projekta — tj.da li će voditi poboljšanju zakonodavstva, pravila o ponašanju, metoda itd?)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- 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ekolo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š</a:t>
              </a:r>
              <a:r>
                <a:rPr b="0" lang="en-GB" sz="1800" spc="-1" strike="noStrike">
                  <a:solidFill>
                    <a:srgbClr val="000080"/>
                  </a:solidFill>
                  <a:latin typeface="Garamond"/>
                </a:rPr>
                <a:t>ki</a:t>
              </a:r>
              <a:r>
                <a:rPr b="0" lang="hr-HR" sz="1800" spc="-1" strike="noStrike">
                  <a:solidFill>
                    <a:srgbClr val="000080"/>
                  </a:solidFill>
                  <a:latin typeface="Garamond"/>
                </a:rPr>
                <a:t> (ukoliko je primjenjivo) 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(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da li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 ć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e projekat imati negativni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/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pozitivni ekolo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š</a:t>
              </a:r>
              <a:r>
                <a:rPr b="0" i="1" lang="en-GB" sz="1800" spc="-1" strike="noStrike">
                  <a:solidFill>
                    <a:srgbClr val="000080"/>
                  </a:solidFill>
                  <a:latin typeface="Garamond"/>
                </a:rPr>
                <a:t>ki uticaj</a:t>
              </a:r>
              <a:r>
                <a:rPr b="0" i="1" lang="hr-HR" sz="1800" spc="-1" strike="noStrike">
                  <a:solidFill>
                    <a:srgbClr val="000080"/>
                  </a:solidFill>
                  <a:latin typeface="Garamond"/>
                </a:rPr>
                <a:t>?)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01680" indent="-301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26560" y="1335240"/>
              <a:ext cx="1117080" cy="598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18080" y="1335240"/>
              <a:ext cx="708120" cy="598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II.1.11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00000" y="1335240"/>
              <a:ext cx="5518080" cy="598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4.1 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je verovatno da će projekat imati opipljiv </a:t>
              </a:r>
              <a:r>
                <a:rPr b="1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u</a:t>
              </a:r>
              <a:r>
                <a:rPr b="1" lang="hr-HR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ticaj na ciljne grupe?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00000" y="1933560"/>
              <a:ext cx="73436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18080" y="836640"/>
              <a:ext cx="0" cy="54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126560" y="836640"/>
              <a:ext cx="0" cy="54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00000" y="2863800"/>
              <a:ext cx="73436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00000" y="1335240"/>
              <a:ext cx="73436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00000" y="836640"/>
              <a:ext cx="73436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00000" y="836640"/>
              <a:ext cx="0" cy="547200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43640" y="836640"/>
              <a:ext cx="0" cy="547200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00000" y="6308640"/>
              <a:ext cx="734364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684360" y="1195560"/>
            <a:ext cx="7756200" cy="5113080"/>
            <a:chOff x="684360" y="1195560"/>
            <a:chExt cx="7756200" cy="5113080"/>
          </a:xfrm>
        </p:grpSpPr>
        <p:sp>
          <p:nvSpPr>
            <p:cNvPr id="564" name=""/>
            <p:cNvSpPr/>
            <p:nvPr/>
          </p:nvSpPr>
          <p:spPr>
            <a:xfrm>
              <a:off x="7417080" y="1195560"/>
              <a:ext cx="1023120" cy="10242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80"/>
                  </a:solidFill>
                  <a:latin typeface="Garamond"/>
                </a:rPr>
                <a:t>1</a:t>
              </a:r>
              <a:r>
                <a:rPr b="1" lang="sr-Latn-BA" sz="2000" spc="-1" strike="noStrike">
                  <a:solidFill>
                    <a:srgbClr val="000080"/>
                  </a:solidFill>
                  <a:latin typeface="Garamond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62480" y="1195560"/>
              <a:ext cx="1254600" cy="10242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4360" y="1195560"/>
              <a:ext cx="5478120" cy="102420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80"/>
                  </a:solidFill>
                  <a:latin typeface="Garamond"/>
                </a:rPr>
                <a:t>5. </a:t>
              </a:r>
              <a:r>
                <a:rPr b="1" lang="en-GB" sz="2000" spc="-1" strike="noStrike">
                  <a:solidFill>
                    <a:srgbClr val="000080"/>
                  </a:solidFill>
                  <a:latin typeface="Garamond"/>
                </a:rPr>
                <a:t>Budžet i efektivnost troškova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17080" y="3870000"/>
              <a:ext cx="1023120" cy="1263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62480" y="3870000"/>
              <a:ext cx="1254600" cy="1263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nnex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4360" y="3870000"/>
              <a:ext cx="5478120" cy="126396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87480" indent="-87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80"/>
                  </a:solidFill>
                  <a:latin typeface="Garamond"/>
                </a:rPr>
                <a:t>5.2 </a:t>
              </a:r>
              <a:r>
                <a:rPr b="0" lang="hr-HR" sz="2000" spc="-1" strike="noStrike">
                  <a:solidFill>
                    <a:srgbClr val="000080"/>
                  </a:solidFill>
                  <a:latin typeface="Garamond"/>
                </a:rPr>
                <a:t>Da li je predloženi trošak </a:t>
              </a:r>
              <a:r>
                <a:rPr b="1" lang="hr-HR" sz="2000" spc="-1" strike="noStrike">
                  <a:solidFill>
                    <a:srgbClr val="000080"/>
                  </a:solidFill>
                  <a:latin typeface="Garamond"/>
                </a:rPr>
                <a:t>neophodan</a:t>
              </a:r>
              <a:r>
                <a:rPr b="0" lang="hr-HR" sz="2000" spc="-1" strike="noStrike">
                  <a:solidFill>
                    <a:srgbClr val="000080"/>
                  </a:solidFill>
                  <a:latin typeface="Garamond"/>
                </a:rPr>
                <a:t> za realizaciju projektnih aktivnosti?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17080" y="5133960"/>
              <a:ext cx="1023120" cy="1174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62480" y="5133960"/>
              <a:ext cx="1254600" cy="1174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4360" y="5133960"/>
              <a:ext cx="5478120" cy="117432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17080" y="2219760"/>
              <a:ext cx="1023120" cy="165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8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62480" y="2219760"/>
              <a:ext cx="1254600" cy="165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Annex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4360" y="2219760"/>
              <a:ext cx="5478120" cy="1650240"/>
            </a:xfrm>
            <a:prstGeom prst="rect">
              <a:avLst/>
            </a:prstGeom>
            <a:solidFill>
              <a:srgbClr val="86d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0" lang="fr-FR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5.1 </a:t>
              </a:r>
              <a:r>
                <a:rPr b="0" lang="hr-HR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Da li je odnos između procijenjenih troškova i očekivanih rezultata zadovoljavajući?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Garamond"/>
                  <a:ea typeface="SimSun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4360" y="3870000"/>
              <a:ext cx="77562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62480" y="119556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17080" y="1195560"/>
              <a:ext cx="0" cy="511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5133960"/>
              <a:ext cx="77562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4360" y="2219760"/>
              <a:ext cx="77562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360" y="1195560"/>
              <a:ext cx="77562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4360" y="119556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40560" y="1195560"/>
              <a:ext cx="0" cy="511308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4360" y="6308640"/>
              <a:ext cx="7756200" cy="0"/>
            </a:xfrm>
            <a:prstGeom prst="line">
              <a:avLst/>
            </a:prstGeom>
            <a:ln cap="sq"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0304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Predaja dodatnih dokumenata za preliminarno odabrane </a:t>
            </a: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predloge projekata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4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Statuti, ili osnivački akti organizacije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i svake od partnerskih organizacija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Kopija najnovijih finansijskih izveštaja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(konačni bilans stanja i bilans uspeha za prethodnu finansijsku godinu)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Obrazac o pravnom statusu (pogledati aneks </a:t>
            </a:r>
            <a:r>
              <a:rPr b="1" lang="en-GB" sz="1600" spc="-1" strike="noStrike">
                <a:solidFill>
                  <a:srgbClr val="ffffff"/>
                </a:solidFill>
                <a:latin typeface="Garamond"/>
              </a:rPr>
              <a:t>D 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Uputstva)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Obrazac za finansijsku identifikaciju u skladu sa modelom priloženom u aneksu E Uput</a:t>
            </a: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stva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, overen od strane banke preko koje će plaćanja biti vršena.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Važeće rešenje o registraciji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podnosioca predloga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1600" spc="-1" strike="noStrike" u="sng">
                <a:solidFill>
                  <a:srgbClr val="ffff00"/>
                </a:solidFill>
                <a:uFillTx/>
                <a:latin typeface="Garamond"/>
              </a:rPr>
              <a:t>Za one podnosioce čiji projekti podrazumevaju izgradn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Pozitivna Odluka o proceni uticaja na životnu sredinu/izjava od relevantnog državnog organa </a:t>
            </a: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 Odluka neophodna za određene aktivnosti ILI odobrenu od relevantnih organa</a:t>
            </a: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 za</a:t>
            </a: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 Procenu uticaja na životnu sredin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Dokaz o svojini ili dugoročnom zakupu (10 godina od potpisivanja ugovora) zemlje/nepokretnosti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Idejni projekat ili Glavni projekat za radove</a:t>
            </a:r>
            <a:r>
              <a:rPr b="0" lang="sr-C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Sva potrebna odobre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Predmer i predračun radova – obračunat u EUR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  <a:ea typeface="SimSun"/>
              </a:rPr>
              <a:t>.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Obaveštavanje o odluci </a:t>
            </a:r>
            <a:br>
              <a:rPr sz="3600"/>
            </a:b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Ugov</a:t>
            </a: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ornog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 t</a:t>
            </a: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ela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(2.5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Uputstvo za podnosioce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41280" y="2200320"/>
            <a:ext cx="823608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će dobiti pismeno obaveštenje o odluci Ug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ornog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t</a:t>
            </a:r>
            <a:r>
              <a:rPr b="1" lang="sr-Latn-CS" sz="2200" spc="-1" strike="noStrike">
                <a:solidFill>
                  <a:srgbClr val="ffffff"/>
                </a:solidFill>
                <a:latin typeface="Garamond"/>
              </a:rPr>
              <a:t>ela 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vezanoj za njih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 predlog projekta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, a u slučaju odbijanja, o razlozima ovakve negativne odluke.</a:t>
            </a:r>
            <a:r>
              <a:rPr b="0" lang="sr-CS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ZTS će poslati pisma uspešnim 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ma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u roku od 15 kalendarskih dana od donošenja odluke o odobravanju, a pisma neuspešnim 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ma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u roku od narednih 15 kalendarskh dana.</a:t>
            </a:r>
            <a:r>
              <a:rPr b="0" lang="sr-CS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Podnosioci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koji smatraju da su oštećeni zbog greške, ili neregularnosti nastalih u toku procesa odobravanja mogu da se žale direktno Ug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ornom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t</a:t>
            </a:r>
            <a:r>
              <a:rPr b="1" lang="sr-Latn-CS" sz="2200" spc="-1" strike="noStrike">
                <a:solidFill>
                  <a:srgbClr val="ffffff"/>
                </a:solidFill>
                <a:latin typeface="Garamond"/>
              </a:rPr>
              <a:t>elu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. Ugov</a:t>
            </a:r>
            <a:r>
              <a:rPr b="1" lang="hr-HR" sz="2200" spc="-1" strike="noStrike">
                <a:solidFill>
                  <a:srgbClr val="ffffff"/>
                </a:solidFill>
                <a:latin typeface="Garamond"/>
              </a:rPr>
              <a:t>orno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t</a:t>
            </a:r>
            <a:r>
              <a:rPr b="1" lang="sr-Latn-CS" sz="2200" spc="-1" strike="noStrike">
                <a:solidFill>
                  <a:srgbClr val="ffffff"/>
                </a:solidFill>
                <a:latin typeface="Garamond"/>
              </a:rPr>
              <a:t>elo</a:t>
            </a:r>
            <a:r>
              <a:rPr b="1" lang="sr-CS" sz="2200" spc="-1" strike="noStrike">
                <a:solidFill>
                  <a:srgbClr val="ffffff"/>
                </a:solidFill>
                <a:latin typeface="Garamond"/>
              </a:rPr>
              <a:t> će odgovoriti u roku od 90 dana od dana prema žalb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62856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Dokumenta za informisanj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45600" y="1936800"/>
            <a:ext cx="853452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F: Standard Contra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II: General conditions applicable to European community-financed grant 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 contracts for external 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IV: Contract awar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V: Standard request fo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VI: Model narrative and financia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86d1ec"/>
                </a:solidFill>
                <a:uFillTx/>
                <a:latin typeface="Garamond"/>
                <a:hlinkClick r:id="rId1"/>
              </a:rPr>
              <a:t>http://ec.europa.eu/europeaid/work/procedures/implementation/grants/index_e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Annex G: DAILY ALLOWANCE RATES (PER DI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Garamond"/>
              </a:rPr>
              <a:t>http://ec.europa.eu/europeaid/work/procedures/implementation/index_e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PROJECT CYCLE MANAGEMENT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86d1ec"/>
                </a:solidFill>
                <a:uFillTx/>
                <a:latin typeface="Garamond"/>
                <a:hlinkClick r:id="rId2"/>
              </a:rPr>
              <a:t>http://ec.europa.eu/europeaid/multimedia/publications/publications/manuals-tools/t101_en.htm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loga ZTS-a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46240" y="1936440"/>
            <a:ext cx="833112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Obavlja funkciju sekretarijata operativnim strukturama Programa i Zajedničkom odboru za praćenje (svakodnevno upravljanje sprovođenja programa)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ruža podršku potencijalnim podnosiocima predloga projekata i korisnicima bespovratne pomoći (informativne kampanje, obuke, usluge FAQ na programskom internet sajtu, itd.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Dizajniranje, redovno održavanje i ažuriranje programskog internet sajta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45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Priprema i dostavljanje potrebne dokumentacije za sprovođenje programa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024680" y="5211720"/>
            <a:ext cx="21193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ontak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0" y="1965240"/>
          <a:ext cx="9143640" cy="2357640"/>
        </p:xfrm>
        <a:graphic>
          <a:graphicData uri="http://schemas.openxmlformats.org/drawingml/2006/table">
            <a:tbl>
              <a:tblPr/>
              <a:tblGrid>
                <a:gridCol w="4351680"/>
                <a:gridCol w="4791960"/>
              </a:tblGrid>
              <a:tr h="91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jednički tehnički sekretarija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lterova 36, 31300 Prijepolje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l/fax: +381 33 712 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-mail: </a:t>
                      </a:r>
                      <a:r>
                        <a:rPr b="0" lang="sr-Latn-CS" sz="1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"/>
                        </a:rPr>
                        <a:t>jts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b: http: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/www.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NIS SLA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ef ZTS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-mail: </a:t>
                      </a: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denis.slatina</a:t>
                      </a:r>
                      <a:r>
                        <a:rPr b="0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THAT</a:t>
                      </a: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HOVI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 menadž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mail: </a:t>
                      </a: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mithat.bahovic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0" y="4476600"/>
          <a:ext cx="9144000" cy="1549440"/>
        </p:xfrm>
        <a:graphic>
          <a:graphicData uri="http://schemas.openxmlformats.org/drawingml/2006/table">
            <a:tbl>
              <a:tblPr/>
              <a:tblGrid>
                <a:gridCol w="4367160"/>
                <a:gridCol w="4776840"/>
              </a:tblGrid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ncelarija u Bijelom Polju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a Nikoljac kanc. br. 20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4000 Bijelo Polje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l/fax: +382 50 848  8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RAN</a:t>
                      </a:r>
                      <a:r>
                        <a:rPr b="0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BIRAČEVI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 menadžer</a:t>
                      </a:r>
                      <a:r>
                        <a:rPr b="0" lang="sr-Latn-C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e</a:t>
                      </a:r>
                      <a:r>
                        <a:rPr b="0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-mail:</a:t>
                      </a:r>
                      <a:r>
                        <a:rPr b="0" lang="sr-Latn-C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goran.prebiracevic@cbcsrb-mn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7200" y="25840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</a:rPr>
              <a:t>Hvala i sre</a:t>
            </a:r>
            <a:r>
              <a:rPr b="1" lang="sr-Latn-BA" sz="5400" spc="-1" strike="noStrike">
                <a:solidFill>
                  <a:srgbClr val="ffff00"/>
                </a:solidFill>
                <a:latin typeface="Garamond"/>
              </a:rPr>
              <a:t>ćno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Prekogranični program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Srbija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–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na Gor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(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1. Uputstvo za podnosioce projekata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985760"/>
            <a:ext cx="4322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Ukupna površina programske obla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9,432 km</a:t>
            </a:r>
            <a:r>
              <a:rPr b="1" lang="sr-Latn-C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Arial"/>
                <a:ea typeface="Arial"/>
              </a:rPr>
              <a:t>SR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,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369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k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Arial"/>
                <a:ea typeface="Arial"/>
              </a:rPr>
              <a:t>MN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,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  <a:ea typeface="Arial"/>
              </a:rPr>
              <a:t>063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k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Ukupan broj stanovnika u programskoj oblasti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Latn-BA" sz="2400" spc="-1" strike="noStrike">
                <a:solidFill>
                  <a:srgbClr val="ffff66"/>
                </a:solidFill>
                <a:latin typeface="Garamond"/>
                <a:ea typeface="Arial"/>
              </a:rPr>
              <a:t>874 787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59520" y="1609560"/>
            <a:ext cx="398448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Ciljevi i prioriteti Program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(1.2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4000" y="3363120"/>
            <a:ext cx="8589960" cy="1217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PRIORIT</a:t>
            </a:r>
            <a:r>
              <a:rPr b="1" lang="sr-Latn-BA" sz="1600" spc="-1" strike="noStrike">
                <a:solidFill>
                  <a:srgbClr val="000080"/>
                </a:solidFill>
                <a:latin typeface="Arial"/>
                <a:ea typeface="Arial"/>
              </a:rPr>
              <a:t>ET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Obezbeđivanje društveno – ekonomske kohezije kroz zajedničke aktivnosti u cilju unapređenja fizičke, poslovne, društvene i institucionalne infrastrukture i kapaciteta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95280" y="5733360"/>
            <a:ext cx="8488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PRIORI</a:t>
            </a:r>
            <a:r>
              <a:rPr b="1" lang="sr-Latn-BA" sz="1800" spc="-1" strike="noStrike">
                <a:solidFill>
                  <a:srgbClr val="000080"/>
                </a:solidFill>
                <a:latin typeface="Arial"/>
                <a:ea typeface="Arial"/>
              </a:rPr>
              <a:t>TET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Tehni</a:t>
            </a:r>
            <a:r>
              <a:rPr b="1" lang="sr-Latn-BA" sz="1800" spc="-1" strike="noStrike">
                <a:solidFill>
                  <a:srgbClr val="000080"/>
                </a:solidFill>
                <a:latin typeface="Arial"/>
                <a:ea typeface="Arial"/>
              </a:rPr>
              <a:t>čka podrš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0" y="2514600"/>
            <a:ext cx="1447920" cy="533520"/>
          </a:xfrm>
          <a:prstGeom prst="flowChartPunchedCar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63720"/>
            <a:ext cx="9144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86d1e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5320" y="907920"/>
            <a:ext cx="7834320" cy="2408400"/>
          </a:xfrm>
          <a:prstGeom prst="ellipse">
            <a:avLst/>
          </a:prstGeom>
          <a:solidFill>
            <a:srgbClr val="ffff66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t</a:t>
            </a:r>
            <a:r>
              <a:rPr b="1" lang="sr-Latn-CS" sz="1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r</a:t>
            </a:r>
            <a:r>
              <a:rPr b="1" lang="en-US" sz="1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ateški cilj: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Povezivanje ljudi, zajednica i privredâ pograničnih regiona kako bi zajedno doprineli razvoju međusobne saradnje, uz korišćenje ljudskih, prirodnih, kulturnih i privrednih resursa i prednost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437000"/>
            <a:ext cx="3537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M</a:t>
            </a:r>
            <a:r>
              <a:rPr b="1" lang="sr-Latn-BA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era</a:t>
            </a:r>
            <a:r>
              <a:rPr b="1" lang="en-GB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3366ff"/>
                </a:solidFill>
                <a:latin typeface="Arial"/>
                <a:ea typeface="Times New Roman"/>
              </a:rPr>
              <a:t>I.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ffffff"/>
                </a:solidFill>
                <a:latin typeface="Arial"/>
                <a:ea typeface="Arial"/>
              </a:rPr>
              <a:t>Povećanje produktivnosti i konkurentnosti privrednih, </a:t>
            </a:r>
            <a:r>
              <a:rPr b="1" lang="sr-CS" sz="1500" spc="-1" strike="noStrike">
                <a:solidFill>
                  <a:srgbClr val="ffffff"/>
                </a:solidFill>
                <a:latin typeface="Arial"/>
                <a:ea typeface="Arial"/>
              </a:rPr>
              <a:t>ruralnih</a:t>
            </a:r>
            <a:r>
              <a:rPr b="1" lang="sr-Latn-CS" sz="15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sr-CS" sz="1500" spc="-1" strike="noStrike">
                <a:solidFill>
                  <a:srgbClr val="ffffff"/>
                </a:solidFill>
                <a:latin typeface="Arial"/>
                <a:ea typeface="Arial"/>
              </a:rPr>
              <a:t>kulturnih</a:t>
            </a:r>
            <a:r>
              <a:rPr b="1" lang="sr-Latn-CS" sz="1500" spc="-1" strike="noStrike">
                <a:solidFill>
                  <a:srgbClr val="ffffff"/>
                </a:solidFill>
                <a:latin typeface="Arial"/>
                <a:ea typeface="Arial"/>
              </a:rPr>
              <a:t> i prirodnih resursa Programske oblasti</a:t>
            </a:r>
            <a:r>
              <a:rPr b="1" lang="en-US" sz="18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4508640"/>
            <a:ext cx="3622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M</a:t>
            </a:r>
            <a:r>
              <a:rPr b="1" lang="sr-Latn-BA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era</a:t>
            </a:r>
            <a:r>
              <a:rPr b="1" lang="en-GB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I.</a:t>
            </a:r>
            <a:r>
              <a:rPr b="1" lang="en-GB" sz="1500" spc="-1" strike="noStrike">
                <a:solidFill>
                  <a:srgbClr val="3399ff"/>
                </a:solidFill>
                <a:latin typeface="Arial"/>
                <a:ea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Prekogranične inicjative usmerene na razmenu ljudi i ideja sa ciljem poboljšanja saradnje stručne javnosti i civilnog društ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4581360"/>
            <a:ext cx="14400" cy="10749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Indi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kativne finansijske alokacij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(1.3 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Uputstvo za podnosioce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087960" y="2286000"/>
            <a:ext cx="2651400" cy="3276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2"/>
          <p:cNvSpPr/>
          <p:nvPr/>
        </p:nvSpPr>
        <p:spPr>
          <a:xfrm>
            <a:off x="6353280" y="37814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Garamond"/>
              </a:rPr>
              <a:t>1.</a:t>
            </a:r>
            <a:r>
              <a:rPr b="1" lang="sr-Latn-BA" sz="2800" spc="-1" strike="noStrike">
                <a:solidFill>
                  <a:srgbClr val="ff3300"/>
                </a:solidFill>
                <a:latin typeface="Garamond"/>
              </a:rPr>
              <a:t>98</a:t>
            </a:r>
            <a:r>
              <a:rPr b="1" lang="hr-HR" sz="2800" spc="-1" strike="noStrike">
                <a:solidFill>
                  <a:srgbClr val="ff3300"/>
                </a:solidFill>
                <a:latin typeface="Garamond"/>
              </a:rPr>
              <a:t>0.000 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33520" y="2941560"/>
            <a:ext cx="1600200" cy="2163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1173240" y="240048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66"/>
                </a:solidFill>
                <a:latin typeface="Garamond"/>
              </a:rPr>
              <a:t>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13240" y="2457360"/>
            <a:ext cx="1600200" cy="2660400"/>
            <a:chOff x="3513240" y="2457360"/>
            <a:chExt cx="1600200" cy="2660400"/>
          </a:xfrm>
        </p:grpSpPr>
        <p:pic>
          <p:nvPicPr>
            <p:cNvPr id="225" name="Picture 2" descr=""/>
            <p:cNvPicPr/>
            <p:nvPr/>
          </p:nvPicPr>
          <p:blipFill>
            <a:blip r:embed="rId3"/>
            <a:stretch/>
          </p:blipFill>
          <p:spPr>
            <a:xfrm>
              <a:off x="3513240" y="2976480"/>
              <a:ext cx="160020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18"/>
            <p:cNvSpPr/>
            <p:nvPr/>
          </p:nvSpPr>
          <p:spPr>
            <a:xfrm>
              <a:off x="3862440" y="2457360"/>
              <a:ext cx="89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BA" sz="2000" spc="-1" strike="noStrike">
                  <a:solidFill>
                    <a:srgbClr val="ffff66"/>
                  </a:solidFill>
                  <a:latin typeface="Garamond"/>
                </a:rPr>
                <a:t>   </a:t>
              </a:r>
              <a:r>
                <a:rPr b="1" lang="sr-Latn-BA" sz="2000" spc="-1" strike="noStrike">
                  <a:solidFill>
                    <a:srgbClr val="ffff66"/>
                  </a:solidFill>
                  <a:latin typeface="Garamond"/>
                </a:rPr>
                <a:t>C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Equal 19"/>
          <p:cNvSpPr/>
          <p:nvPr/>
        </p:nvSpPr>
        <p:spPr>
          <a:xfrm>
            <a:off x="5018040" y="3886200"/>
            <a:ext cx="1198440" cy="457200"/>
          </a:xfrm>
          <a:prstGeom prst="pie">
            <a:avLst/>
          </a:prstGeom>
          <a:solidFill>
            <a:srgbClr val="0090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733320" y="3921120"/>
            <a:ext cx="13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</a:rPr>
              <a:t>900.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000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  <a:ea typeface="Arial"/>
              </a:rPr>
              <a:t>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3676680" y="3911760"/>
            <a:ext cx="143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Arial"/>
              </a:rPr>
              <a:t>1.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  <a:ea typeface="Arial"/>
              </a:rPr>
              <a:t>0</a:t>
            </a:r>
            <a:r>
              <a:rPr b="1" lang="sr-Latn-BA" sz="2000" spc="-1" strike="noStrike">
                <a:solidFill>
                  <a:srgbClr val="ff3300"/>
                </a:solidFill>
                <a:latin typeface="Garamond"/>
                <a:ea typeface="Arial"/>
              </a:rPr>
              <a:t>80.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  <a:ea typeface="Arial"/>
              </a:rPr>
              <a:t>000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  <a:ea typeface="Arial"/>
              </a:rPr>
              <a:t>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3645000"/>
            <a:ext cx="782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  <a:ea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33:57Z</dcterms:created>
  <dc:creator>MithatBahovic</dc:creator>
  <dc:description/>
  <dc:language>en-US</dc:language>
  <cp:lastModifiedBy>Denis Slatina</cp:lastModifiedBy>
  <dcterms:modified xsi:type="dcterms:W3CDTF">2009-07-15T16:36:24Z</dcterms:modified>
  <cp:revision>64</cp:revision>
  <dc:subject/>
  <dc:title>Slide 1</dc:title>
</cp:coreProperties>
</file>