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9370-A5D2-47B7-A453-0F70F15E5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0DE37A18-4B63-46F9-B8EA-F3CD41A40B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7940-1690-44E0-B803-0B89A7EE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6343-791F-46BE-86AC-B17D3B1D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9AFF-96D3-4BC4-8F43-36A6FC1B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30BD-EC06-439D-9538-AC499D088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5D47-4739-47A3-821A-D46CD87F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1EFA-2180-4EFD-A9E7-60DB0A91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AB80-F3D0-4069-8AB5-E87162E8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AE7D-D1B6-4566-A094-5718D15D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10F8-607A-4555-AA8B-F3126C3D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AD40-4717-4A7F-80BF-0A43DE37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AF49-EF45-498C-A2AE-4ACEB6AA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DACF-31EA-4C7D-B7D7-E1B53052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2CCD-9495-4C6E-94BD-54620588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CE65-76CE-44E0-8D98-CAAA1BB8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2ABA-24FF-4A61-86A3-A816E65F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3989-1D8B-48DC-B644-01BBBC3D3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2FDA-CCFC-4E90-8142-970765710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0AB9-4935-4AFD-990C-58D1CAFE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7273-DBF1-4137-9D52-18315736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641F-7666-407E-9156-B934970F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7DE9-33D5-44A0-98A0-790483D1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9C11-C6B3-41FE-8B63-D7F5D75E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ED4B-4C86-4681-917E-8BF4A9DD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0798-53D3-41FE-94C8-B92E2D09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C4B9-38C3-428B-9E18-4B5B6F0A30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8"/>
          <a:stretch/>
        </p:blipFill>
        <p:spPr>
          <a:xfrm>
            <a:off x="6818400" y="0"/>
            <a:ext cx="2325600" cy="801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9"/>
          <a:stretch/>
        </p:blipFill>
        <p:spPr>
          <a:xfrm>
            <a:off x="179280" y="115920"/>
            <a:ext cx="520920" cy="792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10"/>
          <a:stretch/>
        </p:blipFill>
        <p:spPr>
          <a:xfrm>
            <a:off x="826920" y="115920"/>
            <a:ext cx="662040" cy="720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1"/>
          <a:stretch/>
        </p:blipFill>
        <p:spPr>
          <a:xfrm>
            <a:off x="108000" y="6381720"/>
            <a:ext cx="628560" cy="420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828000" y="6308640"/>
            <a:ext cx="91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jeka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nansiran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d strane E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8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5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9DDE-C067-418C-ACC3-9C7342DB7C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cbcsrb-mne.org/" TargetMode="External"/><Relationship Id="rId3" Type="http://schemas.openxmlformats.org/officeDocument/2006/relationships/hyperlink" Target="http://www.evropa.gov.rs/" TargetMode="External"/><Relationship Id="rId4" Type="http://schemas.openxmlformats.org/officeDocument/2006/relationships/hyperlink" Target="http://www.gov.me/minzaevint/" TargetMode="External"/><Relationship Id="rId5" Type="http://schemas.openxmlformats.org/officeDocument/2006/relationships/hyperlink" Target="http://www.cbccro-mne.org/forum" TargetMode="Externa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0" y="0"/>
            <a:ext cx="9144000" cy="54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Prekogranični pro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Srbija – Crna Go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INFO D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4.Lokalna kancelarij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815328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07552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ffff00"/>
                </a:solidFill>
                <a:latin typeface="Garamond"/>
              </a:rPr>
              <a:t>5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. </a:t>
            </a:r>
            <a:r>
              <a:rPr b="1" lang="sr-CS" sz="3600" spc="-1" strike="noStrike">
                <a:solidFill>
                  <a:srgbClr val="ffff00"/>
                </a:solidFill>
                <a:latin typeface="Garamond"/>
              </a:rPr>
              <a:t>Ostali troškovi</a:t>
            </a: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, </a:t>
            </a:r>
            <a:r>
              <a:rPr b="1" lang="sr-CS" sz="3600" spc="-1" strike="noStrike">
                <a:solidFill>
                  <a:srgbClr val="ffff00"/>
                </a:solidFill>
                <a:latin typeface="Garamond"/>
              </a:rPr>
              <a:t>uslu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822960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Struktura budžeta po lokaciji aktivno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642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1A. Ukupno prihvatljivih troškova – prihvatljiva teritorija  8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1B. Ukupno prihvatljivih troškova- pridružena teritorija 2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1C. Ukupno prihvatljivih troškova- (prihvatljiva+pridružena teritorij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31840" y="2192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40440" y="765000"/>
            <a:ext cx="384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00"/>
                </a:solidFill>
                <a:latin typeface="Garamond"/>
              </a:rPr>
              <a:t>Najčešće grešk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40" y="1677960"/>
            <a:ext cx="763632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55155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ffffff"/>
                </a:solidFill>
                <a:latin typeface="Garamond"/>
              </a:rPr>
              <a:t>Aritmetičke grešk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55155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55155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ffffff"/>
                </a:solidFill>
                <a:latin typeface="Garamond"/>
              </a:rPr>
              <a:t>Nisu potpisani budžet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55155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55155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ffffff"/>
                </a:solidFill>
                <a:latin typeface="Garamond"/>
              </a:rPr>
              <a:t>Neprihvatljivi troškov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55155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55155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ffffff"/>
                </a:solidFill>
                <a:latin typeface="Garamond"/>
              </a:rPr>
              <a:t>Max/min iznos granta/sufinansiranj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31840" y="217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23400" y="816120"/>
            <a:ext cx="142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itanj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488360" y="5448240"/>
            <a:ext cx="1655640" cy="14097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50920" y="1628640"/>
            <a:ext cx="8675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va pitanja/odgovore </a:t>
            </a:r>
            <a:r>
              <a:rPr b="1" lang="sr-Latn-BA" sz="4000" spc="-1" strike="noStrike">
                <a:solidFill>
                  <a:srgbClr val="ffff00"/>
                </a:solidFill>
                <a:latin typeface="Arial"/>
              </a:rPr>
              <a:t>ćete naći na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40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www.cbcsrb-mne.or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40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www.evropa.gov.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40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www.gov.me/minzaevint/</a:t>
            </a:r>
            <a:r>
              <a:rPr b="1" lang="sr-Latn-BA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86d1ec"/>
                </a:solidFill>
                <a:uFillTx/>
                <a:latin typeface="Arial"/>
                <a:hlinkClick r:id="rId5"/>
              </a:rPr>
              <a:t>www.cbccro-mne.org/forum</a:t>
            </a:r>
            <a:r>
              <a:rPr b="1" lang="sr-Latn-BA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31840" y="217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68200" y="2924280"/>
            <a:ext cx="656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Garamond"/>
              </a:rPr>
              <a:t>HVALA NA PA</a:t>
            </a:r>
            <a:r>
              <a:rPr b="0" lang="hr-HR" sz="3000" spc="-1" strike="noStrike">
                <a:solidFill>
                  <a:srgbClr val="ff3300"/>
                </a:solidFill>
                <a:latin typeface="Garamond"/>
              </a:rPr>
              <a:t>ŽNJI </a:t>
            </a:r>
            <a:r>
              <a:rPr b="0" lang="en-US" sz="3000" spc="-1" strike="noStrike">
                <a:solidFill>
                  <a:srgbClr val="ff3300"/>
                </a:solidFill>
                <a:latin typeface="Garamond"/>
              </a:rPr>
              <a:t> I SRE</a:t>
            </a:r>
            <a:r>
              <a:rPr b="0" lang="sr-Latn-BA" sz="3000" spc="-1" strike="noStrike">
                <a:solidFill>
                  <a:srgbClr val="ff3300"/>
                </a:solidFill>
                <a:latin typeface="Garamond"/>
              </a:rPr>
              <a:t>ĆNO!!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Garamond"/>
              </a:rPr>
              <a:t>Logički Okv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286000" y="1371600"/>
            <a:ext cx="1754280" cy="8571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Objektivn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provjerljiv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indikato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380880" y="2286000"/>
            <a:ext cx="1729080" cy="85572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Opšti cil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2286000" y="2286000"/>
            <a:ext cx="1754280" cy="85572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4191120" y="2286000"/>
            <a:ext cx="1752480" cy="85572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80880" y="3200400"/>
            <a:ext cx="1729080" cy="8571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vrh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rojek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2286000" y="3200400"/>
            <a:ext cx="1754280" cy="8571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4191120" y="3200400"/>
            <a:ext cx="1752480" cy="8571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380880" y="4114800"/>
            <a:ext cx="1729080" cy="855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zulta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2286000" y="4114800"/>
            <a:ext cx="1754280" cy="855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4191120" y="4114800"/>
            <a:ext cx="1752480" cy="855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4191120" y="5029200"/>
            <a:ext cx="1752480" cy="85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Troško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6095880" y="2286000"/>
            <a:ext cx="1752840" cy="85572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6095880" y="3200400"/>
            <a:ext cx="1752840" cy="855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6095880" y="4114800"/>
            <a:ext cx="1752840" cy="8571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6095880" y="5029200"/>
            <a:ext cx="1752840" cy="8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6095880" y="6000840"/>
            <a:ext cx="1752840" cy="857160"/>
          </a:xfrm>
          <a:prstGeom prst="rect">
            <a:avLst/>
          </a:prstGeom>
          <a:solidFill>
            <a:srgbClr val="7b46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Tahoma"/>
              </a:rPr>
              <a:t>Preduslovi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191120" y="1371600"/>
            <a:ext cx="1752480" cy="855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zvor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ovj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6095880" y="1371600"/>
            <a:ext cx="1752840" cy="855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ahoma"/>
              </a:rPr>
              <a:t>Pretpostavk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380880" y="5029200"/>
            <a:ext cx="1729080" cy="8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ktiv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2286000" y="5029200"/>
            <a:ext cx="1754280" cy="8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Sredst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23"/>
          <p:cNvSpPr/>
          <p:nvPr/>
        </p:nvSpPr>
        <p:spPr>
          <a:xfrm rot="16060200">
            <a:off x="4719240" y="6019560"/>
            <a:ext cx="609480" cy="609480"/>
          </a:xfrm>
          <a:custGeom>
            <a:avLst/>
            <a:gdLst>
              <a:gd name="textAreaLeft" fmla="*/ 75960 w 609480"/>
              <a:gd name="textAreaRight" fmla="*/ 53352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31840" y="2192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41320" y="765000"/>
            <a:ext cx="51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00"/>
                </a:solidFill>
                <a:latin typeface="Garamond"/>
              </a:rPr>
              <a:t>Svrha izrade budže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1557360"/>
            <a:ext cx="749124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f55155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Aneks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1" lang="hr-HR" sz="2400" spc="-1" strike="noStrike">
                <a:solidFill>
                  <a:srgbClr val="ff3300"/>
                </a:solidFill>
                <a:latin typeface="Garamond"/>
              </a:rPr>
              <a:t>Excel tabel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f55155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f55155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Instrument planiranja i monitorin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f55155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f55155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Budžet po aplikantu i kumulativni budž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80000"/>
              </a:lnSpc>
              <a:buClr>
                <a:srgbClr val="f55155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f55155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Troškovi neophodni za izvođenje aktiv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Opšti opis b</a:t>
            </a:r>
            <a:r>
              <a:rPr b="1" lang="sr-CS" sz="3200" spc="-1" strike="noStrike">
                <a:solidFill>
                  <a:srgbClr val="ffff00"/>
                </a:solidFill>
                <a:latin typeface="Garamond"/>
              </a:rPr>
              <a:t>udžet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</a:t>
            </a:r>
            <a:r>
              <a:rPr b="1" lang="sr-CS" sz="3200" spc="-1" strike="noStrike">
                <a:solidFill>
                  <a:srgbClr val="ffff00"/>
                </a:solidFill>
                <a:latin typeface="Garamond"/>
              </a:rPr>
              <a:t> za projek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Budžet se radi u programu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Excel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i sastoji se iz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četiri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 elementa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Zajednički budž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Budžet za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o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proje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/ partn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Obrazloženje budžeta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Aneks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 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Izvori finansiranja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Aneks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 2)</a:t>
            </a:r>
            <a:r>
              <a:rPr b="0" lang="en-IE" sz="2800" spc="-1" strike="noStrike">
                <a:solidFill>
                  <a:srgbClr val="ff0000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43640" y="4149720"/>
            <a:ext cx="380880" cy="2362320"/>
          </a:xfrm>
          <a:custGeom>
            <a:avLst/>
            <a:gdLst>
              <a:gd name="textAreaLeft" fmla="*/ 0 w 380880"/>
              <a:gd name="textAreaRight" fmla="*/ 137520 w 3808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16"/>
                </a:lnTo>
                <a:cubicBezTo>
                  <a:pt x="10800" y="10016"/>
                  <a:pt x="16200" y="10916"/>
                  <a:pt x="21600" y="10916"/>
                </a:cubicBezTo>
                <a:cubicBezTo>
                  <a:pt x="16200" y="10916"/>
                  <a:pt x="10800" y="11816"/>
                  <a:pt x="10800" y="1271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34320" y="4076640"/>
            <a:ext cx="2209680" cy="1371600"/>
          </a:xfrm>
          <a:prstGeom prst="wedgeRectCallout">
            <a:avLst>
              <a:gd name="adj1" fmla="val -36421"/>
              <a:gd name="adj2" fmla="val 75694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opunjava i Podnosilac 1 i Podnosilac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Budžet po aplikantu i</a:t>
            </a:r>
            <a:br>
              <a:rPr sz="3600"/>
            </a:br>
            <a:r>
              <a:rPr b="1" lang="sr-Latn-BA" sz="3600" spc="-1" strike="noStrike">
                <a:solidFill>
                  <a:srgbClr val="ffff00"/>
                </a:solidFill>
                <a:latin typeface="Garamond"/>
              </a:rPr>
              <a:t> kumulativni budž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adni prozor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1- Kum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ulativni budžet (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odnosioc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1 i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odnosioc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adni prozor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1 – plavi (budžet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odnosioca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adni prozor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2 – plavi (opravdanje troškova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odnosioca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adni prozor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3 – plavi (očekivani izvori finansiranja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odnosioca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adni prozor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1 – crveni (budžet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odnosioca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adni prozor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2 – crveni (opravdanje troškova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odnosioca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adni prozor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3 – crveni (očekivani izvori finansiranja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odnosioca</a:t>
            </a:r>
            <a:r>
              <a:rPr b="1" lang="sr-Latn-BA" sz="2000" spc="-1" strike="noStrike">
                <a:solidFill>
                  <a:srgbClr val="ffffff"/>
                </a:solidFill>
                <a:latin typeface="Garamond"/>
              </a:rPr>
              <a:t> 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0">
              <a:lnSpc>
                <a:spcPct val="1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31840" y="2192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79720" y="765000"/>
            <a:ext cx="44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00"/>
                </a:solidFill>
                <a:latin typeface="Garamond"/>
              </a:rPr>
              <a:t>Struktura budže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-57240" y="1628640"/>
            <a:ext cx="8392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Ljudski resur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Putovan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Oprema i materij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Troškovi lokalne kancelar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Ostali troškovi i uslu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Osta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Međuzbir direktnih prihvatljivih troškova 1-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Rezerva za nepredviđene situacije (max 5% od 7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Ukupan zbir direktnih prihvatljivih troškova (7+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Administrativni troškovi (max 7% od 9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Ukupan zbir prihvatljivih troškov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14716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IE" sz="3600" spc="-1" strike="noStrike" u="sng">
                <a:solidFill>
                  <a:srgbClr val="ffff00"/>
                </a:solidFill>
                <a:uFillTx/>
                <a:latin typeface="Garamond"/>
              </a:rPr>
              <a:t>1. </a:t>
            </a:r>
            <a:r>
              <a:rPr b="1" lang="sr-CS" sz="3600" spc="-1" strike="noStrike" u="sng">
                <a:solidFill>
                  <a:srgbClr val="ffff00"/>
                </a:solidFill>
                <a:uFillTx/>
                <a:latin typeface="Garamond"/>
              </a:rPr>
              <a:t>Ljudski resurs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80787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280" y="582120"/>
            <a:ext cx="81471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2. </a:t>
            </a:r>
            <a:r>
              <a:rPr b="1" lang="sr-CS" sz="3600" spc="-1" strike="noStrike">
                <a:solidFill>
                  <a:srgbClr val="ffff00"/>
                </a:solidFill>
                <a:latin typeface="Garamond"/>
              </a:rPr>
              <a:t>Putovanj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822960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814716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Garamond"/>
              </a:rPr>
              <a:t>3. </a:t>
            </a:r>
            <a:r>
              <a:rPr b="1" lang="sr-CS" sz="3600" spc="-1" strike="noStrike">
                <a:solidFill>
                  <a:srgbClr val="ffff00"/>
                </a:solidFill>
                <a:latin typeface="Garamond"/>
              </a:rPr>
              <a:t>Oprema, materijal i radovi</a:t>
            </a:r>
            <a:r>
              <a:rPr b="1" lang="lt-LT" sz="3600" spc="-1" strike="noStrike">
                <a:solidFill>
                  <a:srgbClr val="ffff00"/>
                </a:solidFill>
                <a:latin typeface="Garamond"/>
              </a:rPr>
              <a:t> </a:t>
            </a:r>
            <a:br>
              <a:rPr sz="3600"/>
            </a:br>
            <a:r>
              <a:rPr b="1" lang="sr-CS" sz="3600" spc="-1" strike="noStrike">
                <a:solidFill>
                  <a:srgbClr val="ffff00"/>
                </a:solidFill>
                <a:latin typeface="Garamond"/>
              </a:rPr>
              <a:t>Budžet za projek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693200" cy="21272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990720" y="4221000"/>
            <a:ext cx="761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Garamond"/>
              </a:rPr>
              <a:t>troškovi kupovine / iznajmljivanja opreme, uslu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CS" sz="2400" spc="-1" strike="noStrike">
                <a:solidFill>
                  <a:srgbClr val="ffffff"/>
                </a:solidFill>
                <a:latin typeface="Garamond"/>
              </a:rPr>
              <a:t>ako se za potrebe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rojekta </a:t>
            </a:r>
            <a:r>
              <a:rPr b="1" lang="sr-CS" sz="2400" spc="-1" strike="noStrike">
                <a:solidFill>
                  <a:srgbClr val="ffffff"/>
                </a:solidFill>
                <a:latin typeface="Garamond"/>
              </a:rPr>
              <a:t>moraju kupiti ili iznajmiti dodatne mašine ili oprema, to treba ovd</a:t>
            </a:r>
            <a:r>
              <a:rPr b="1" lang="sr-Latn-BA" sz="2400" spc="-1" strike="noStrike">
                <a:solidFill>
                  <a:srgbClr val="ffffff"/>
                </a:solidFill>
                <a:latin typeface="Garamond"/>
              </a:rPr>
              <a:t>j</a:t>
            </a:r>
            <a:r>
              <a:rPr b="1" lang="sr-CS" sz="2400" spc="-1" strike="noStrike">
                <a:solidFill>
                  <a:srgbClr val="ffffff"/>
                </a:solidFill>
                <a:latin typeface="Garamond"/>
              </a:rPr>
              <a:t>e prikaza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8T11:33:57Z</dcterms:created>
  <dc:creator>MithatBahovic</dc:creator>
  <dc:description/>
  <dc:language>en-US</dc:language>
  <cp:lastModifiedBy>MithatBahovic</cp:lastModifiedBy>
  <dcterms:modified xsi:type="dcterms:W3CDTF">2009-07-17T10:38:04Z</dcterms:modified>
  <cp:revision>104</cp:revision>
  <dc:subject/>
  <dc:title>Slide 1</dc:title>
</cp:coreProperties>
</file>