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E8E-07D9-4E0A-ABA6-50BF70DDE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9BF9CCB-D822-4A46-A1B4-A3E85A1560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8A7-2A08-4B58-A0D7-D2C43B55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DCF-DC5D-432B-8772-D9148D12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2D0-6840-4286-9EE0-E2CD691F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0EB-5717-48FE-AB86-AC43AF95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7A05-5DB5-4AD3-A790-40413035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2614-CCCB-4804-BE94-E90CAF7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EF81-0A89-4DDA-AA04-F2A1C44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972-A66A-45E1-BB10-B0947F30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967-67E7-4E92-AF27-50E96D6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625-A4DF-4D52-BEAF-D1ED1AF7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B1E-2C90-4A51-A4E3-C7B4A22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FD-70E7-4BDD-9EB1-DB1545D8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B3F5-40AF-4F1A-B00B-C803A38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FA89-245F-4A42-A9A8-8568F02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9536-B8C0-4488-938F-ADE46D8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CFFF-CBEA-452D-B892-A49BDF10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5998-6A60-42B4-92B2-C2669CE9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359-42C8-4828-8414-160D566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2CF-DC2A-4C29-919D-3A54FAC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B49-437C-45B6-96CA-7BE9F39E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38E-4972-42E1-AD72-2B27C87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83A-6A03-4B30-BA07-DDF1268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B0A-1310-4B56-8F01-383B748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E0B-25B5-46F0-AD6A-E02DD32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138E-8772-4570-8798-A83A09C532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0" y="6066000"/>
            <a:ext cx="52056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8481960" y="613728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75564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56720" y="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8532720" y="0"/>
            <a:ext cx="61128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DE37-7D31-4F41-AF09-F61D6377E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1876320"/>
            <a:ext cx="914400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FO D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0"/>
            <a:ext cx="468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40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147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Aneks “C” Prijavnog obras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Excel tabe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Garamond"/>
              </a:rPr>
              <a:t>Mora biti priložena uz Prijavni obrazac  u štampanoj verziji, kao i u elektronskom forma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43200" y="401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8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27040" y="33336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Logički okvir kao pristu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upravljanju projekti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Pristup logičkog okvira (</a:t>
            </a:r>
            <a:r>
              <a:rPr b="0" i="1" lang="hr-HR" sz="2800" spc="-1" strike="noStrike">
                <a:solidFill>
                  <a:srgbClr val="ffffff"/>
                </a:solidFill>
                <a:latin typeface="Garamond"/>
              </a:rPr>
              <a:t>Logical Framework Approach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Analitički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Set alata 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planiranje 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upravljanje projek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Logička matrica kao jedan od proizvoda tog procesa (</a:t>
            </a:r>
            <a:r>
              <a:rPr b="0" i="1" lang="hr-HR" sz="2800" spc="-1" strike="noStrike">
                <a:solidFill>
                  <a:srgbClr val="ffffff"/>
                </a:solidFill>
                <a:latin typeface="Garamond"/>
              </a:rPr>
              <a:t>Logical Framework Matrix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Tabela koja sadrž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Hijerarhiju ciljeva pro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Ključne spoljne faktore koji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tiču na proje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Načine na koji će se pratiti sprovođenje i ocjenjivati proje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Osnove za utvrđivanje potrebnih resursa i proraču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Koraci u kreiranju matrice logi</a:t>
            </a: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čkog okv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tuaci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</a:t>
            </a:r>
            <a:r>
              <a:rPr b="1" lang="sr-Latn-BA" sz="3200" spc="-1" strike="noStrike">
                <a:solidFill>
                  <a:srgbClr val="ffffff"/>
                </a:solidFill>
                <a:latin typeface="Garamond"/>
              </a:rPr>
              <a:t>činioca – stekeh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cilj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Analiza alternati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Garamond"/>
              </a:rPr>
              <a:t>Planiranje aktiv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52280" y="920880"/>
            <a:ext cx="21020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Opšti ci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52280" y="1987560"/>
            <a:ext cx="210204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Garamond"/>
              </a:rPr>
              <a:t>Specifič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000000"/>
                </a:solidFill>
                <a:latin typeface="Garamond"/>
              </a:rPr>
              <a:t>cilj</a:t>
            </a: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29560" y="1987560"/>
            <a:ext cx="213336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29560" y="3044880"/>
            <a:ext cx="213336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52280" y="4111560"/>
            <a:ext cx="2102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829560" y="4111560"/>
            <a:ext cx="2133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tpostav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829560" y="5178600"/>
            <a:ext cx="21333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Predusl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352600" y="914400"/>
            <a:ext cx="21020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72000" y="914400"/>
            <a:ext cx="213372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2600" y="1981080"/>
            <a:ext cx="210204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k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4572000" y="1981080"/>
            <a:ext cx="2133720" cy="914400"/>
          </a:xfrm>
          <a:prstGeom prst="rect">
            <a:avLst/>
          </a:prstGeom>
          <a:gradFill rotWithShape="0">
            <a:gsLst>
              <a:gs pos="0">
                <a:srgbClr val="f7faba"/>
              </a:gs>
              <a:gs pos="100000">
                <a:srgbClr val="fafe6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52280" y="3044880"/>
            <a:ext cx="210204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Rezul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352600" y="3038400"/>
            <a:ext cx="210204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Indika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572000" y="3038400"/>
            <a:ext cx="2133720" cy="914400"/>
          </a:xfrm>
          <a:prstGeom prst="rect">
            <a:avLst/>
          </a:prstGeom>
          <a:gradFill rotWithShape="0">
            <a:gsLst>
              <a:gs pos="0">
                <a:srgbClr val="ffa48f"/>
              </a:gs>
              <a:gs pos="100000">
                <a:srgbClr val="ff64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2352600" y="4105440"/>
            <a:ext cx="2102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Sredst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4572000" y="410544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Garamond"/>
              </a:rPr>
              <a:t>Troš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828800" y="1522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7272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ffff00"/>
                </a:solidFill>
                <a:latin typeface="Garamond"/>
              </a:rPr>
              <a:t>LOGIČKI OKV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Matrica logičkog okv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aramond"/>
              </a:rPr>
              <a:t>Sažet tabelarni prikaz projekta koji služ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Kvalitetnom i logičnom planiranju i definisanju projek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Jasnoj prezentaciji projekta (donatorima i ostalim činioci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Ocjeni kao i praćenju sprovođenja projek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OGICAL FRAMEWORK FOR TH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68360" y="944640"/>
          <a:ext cx="8229600" cy="591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 log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ly verifiable indicators of achievem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s and means of verific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objectiv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overall broader objectives to which the action will contribute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key indicators related to the overall objectiv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for these indicator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 objectiv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specific objective is the action intended to achieve to contribute to the overall objectiv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 indicators clearly show that the objective of the action has been achieved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that exist or can be collected? What are the methods required to get this information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 factors and conditions outside the Beneficiary's responsibility are necessary to achieve that objective? (external conditions) Which risks should be taken into consideration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ed resul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esults are the outputs envisaged to achieve the specific objective. What are the expected results? (enumerate them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indicators to measure whether and to what extent the action achieves the expected result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for these indicator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external conditions must be met to obtain the expected results on schedule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key activities to be carried out and in what sequence in order to produce the expected results? (group the activities by result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: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at are the means required to implement these activities, e. g. personnel, equipment, training, studies, supplies, operational facilities, etc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sources of information about action progress?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the action costs? How are they classified? (breakdown in the Budget for the Action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pre-conditions are required before the action starts? What conditions outside the Beneficiary's direct control have to be metfor the implementation of the planned activities?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Redosljed popunjavanja logičke matr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57200" y="1600200"/>
            <a:ext cx="8229600" cy="4492800"/>
            <a:chOff x="457200" y="1600200"/>
            <a:chExt cx="8229600" cy="4492800"/>
          </a:xfrm>
        </p:grpSpPr>
        <p:sp>
          <p:nvSpPr>
            <p:cNvPr id="208" name=""/>
            <p:cNvSpPr/>
            <p:nvPr/>
          </p:nvSpPr>
          <p:spPr>
            <a:xfrm>
              <a:off x="66294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720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46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5230800"/>
              <a:ext cx="2057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Aktivnos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294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46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432576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Rezulta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6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" y="3419640"/>
              <a:ext cx="20574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Specifi</a:t>
              </a:r>
              <a:r>
                <a:rPr b="1" lang="sr-Latn-BA" sz="1800" spc="-1" strike="noStrike">
                  <a:solidFill>
                    <a:srgbClr val="ffffff"/>
                  </a:solidFill>
                  <a:latin typeface="Garamond"/>
                </a:rPr>
                <a:t>čni cilj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94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146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" y="2514600"/>
              <a:ext cx="20574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pšti ciljev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1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94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Pretpostav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Izvori provj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bjektivno provjerljivi indikato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1600200"/>
              <a:ext cx="2057400" cy="914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ffff"/>
                  </a:solidFill>
                  <a:latin typeface="Garamond"/>
                </a:rPr>
                <a:t>Opis projek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3419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432576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523080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60930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600200"/>
              <a:ext cx="0" cy="4492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146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1600200"/>
              <a:ext cx="0" cy="449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86800" y="1600200"/>
              <a:ext cx="0" cy="4492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68360" y="3429000"/>
            <a:ext cx="2016000" cy="792000"/>
          </a:xfrm>
          <a:prstGeom prst="rect">
            <a:avLst/>
          </a:prstGeom>
          <a:solidFill>
            <a:srgbClr val="3366ff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5300640"/>
            <a:ext cx="2016000" cy="792360"/>
          </a:xfrm>
          <a:prstGeom prst="rect">
            <a:avLst/>
          </a:prstGeom>
          <a:solidFill>
            <a:srgbClr val="0000ff">
              <a:alpha val="1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437000"/>
            <a:ext cx="2016000" cy="792360"/>
          </a:xfrm>
          <a:prstGeom prst="rect">
            <a:avLst/>
          </a:prstGeom>
          <a:solidFill>
            <a:srgbClr val="7b46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7280" y="2565360"/>
            <a:ext cx="1873440" cy="792360"/>
          </a:xfrm>
          <a:prstGeom prst="rect">
            <a:avLst/>
          </a:prstGeom>
          <a:solidFill>
            <a:srgbClr val="45c984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7280" y="3500280"/>
            <a:ext cx="1873440" cy="720720"/>
          </a:xfrm>
          <a:prstGeom prst="rect">
            <a:avLst/>
          </a:prstGeom>
          <a:solidFill>
            <a:srgbClr val="45c984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27280" y="4437000"/>
            <a:ext cx="1873440" cy="720720"/>
          </a:xfrm>
          <a:prstGeom prst="rect">
            <a:avLst/>
          </a:prstGeom>
          <a:solidFill>
            <a:srgbClr val="45c984">
              <a:alpha val="7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2565360"/>
            <a:ext cx="1873440" cy="79236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3500280"/>
            <a:ext cx="1873440" cy="72072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3280" y="4437000"/>
            <a:ext cx="1873440" cy="720720"/>
          </a:xfrm>
          <a:prstGeom prst="rect">
            <a:avLst/>
          </a:prstGeom>
          <a:solidFill>
            <a:srgbClr val="ffcc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500280"/>
            <a:ext cx="1873080" cy="720720"/>
          </a:xfrm>
          <a:prstGeom prst="rect">
            <a:avLst/>
          </a:prstGeom>
          <a:solidFill>
            <a:srgbClr val="ff00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32720" y="4437000"/>
            <a:ext cx="1873080" cy="720720"/>
          </a:xfrm>
          <a:prstGeom prst="rect">
            <a:avLst/>
          </a:prstGeom>
          <a:solidFill>
            <a:srgbClr val="ff0000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720" y="5300640"/>
            <a:ext cx="1873080" cy="720720"/>
          </a:xfrm>
          <a:prstGeom prst="rect">
            <a:avLst/>
          </a:prstGeom>
          <a:solidFill>
            <a:srgbClr val="ff0000">
              <a:alpha val="8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5840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Hvala i sre</a:t>
            </a:r>
            <a:r>
              <a:rPr b="1" lang="sr-Latn-BA" sz="5400" spc="-1" strike="noStrike">
                <a:solidFill>
                  <a:srgbClr val="ffff00"/>
                </a:solidFill>
                <a:latin typeface="Garamond"/>
              </a:rPr>
              <a:t>ćno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MithatBahovic</cp:lastModifiedBy>
  <dcterms:modified xsi:type="dcterms:W3CDTF">2009-07-15T12:40:11Z</dcterms:modified>
  <cp:revision>114</cp:revision>
  <dc:subject/>
  <dc:title>Slide 1</dc:title>
</cp:coreProperties>
</file>